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dt" idx="1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2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3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2262-3833-41D0-96E9-68CAFB6D7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9C75-DAD3-4151-A9ED-7FDF6797D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EFDB-B090-49FA-BA56-C42990081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F66C-4589-4786-9116-12DC59887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AB7C-586C-4661-8016-15AD0C6F7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4 Alleles, alternative versions of a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C05A-3629-4548-A02A-1C04B7011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6FF5-4F6E-4BEA-B352-C42ED44D7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6051-11A7-4CAF-8B4E-A21953025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7D0B-CF23-459A-B099-AE4E7FEF7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0389-CFAD-45F7-9F39-6A77ED614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5 Mendel’s law of segre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F1C6-DAFC-4728-A841-6C0CE5A15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5 Mendel’s law of segre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4ED0-CE7E-4D58-B563-2D9E0C7B0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5 Mendel’s law of segre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7E51-AF22-4CBE-BC91-B6B0F7F32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7095-D64D-4AB6-9AEE-0E3814DE9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D1A4-5317-44BF-A0F2-F61DAE797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C137-A753-4FD8-A6D3-A93A83582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6 Phenotype versus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5268-AC62-4FCF-A616-42917EE55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9A10-0EC6-4362-959A-4F5A50233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7 The test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26F2-B437-4508-9536-5AEF5F066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7C31-CE32-4D1D-9AE8-5489587CA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CB92-10D8-4EAD-83EB-65616EE34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8 Do the alleles for one character assort into gametes dependently or independently of the alleles for a different charac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DCCC-B422-44F5-BB28-4B654E29B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44B2-6845-4053-B360-7267EE4DE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D5D6-7F37-495D-A1ED-006CB53CF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1 What principles of inheritance did Gregor Mendel discover by breeding garden pea pla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7FBB-B719-4D41-BB1E-D254CD953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98FD-0924-494A-9EE6-227FB2EE9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14.2 Crossing pea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1381-D378-45FF-BBD4-DE489FD1A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1E22-E98B-48DE-A4EE-E5A0361A6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3 When 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ybrid pea plants are allowed to self-pollinate, which traits appear in the 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ener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3454-97AD-4D39-8228-92FEFB929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7269-1A3B-4F5F-AB1F-DA76A91EC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04920" y="373428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7342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7840" y="37342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90680" y="12193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76080" y="12193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04920" y="37342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90680" y="37342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76080" y="37342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304920" y="37342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7840" y="37342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4920" y="373428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04920" y="373428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7342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7840" y="37342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190680" y="12193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76080" y="12193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304920" y="37342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190680" y="37342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76080" y="37342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04920" y="37342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7840" y="37342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04920" y="373428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04920" y="373428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7342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7840" y="37342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190680" y="12193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76080" y="12193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04920" y="37342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190680" y="37342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76080" y="37342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04920" y="37342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7840" y="37342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73428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228240" y="579132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0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351000" indent="-3510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351000" indent="-3510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8" descr="art"/>
          <p:cNvPicPr/>
          <p:nvPr/>
        </p:nvPicPr>
        <p:blipFill>
          <a:blip r:embed="rId2"/>
          <a:srcRect l="0" t="53715" r="0" b="2773"/>
          <a:stretch/>
        </p:blipFill>
        <p:spPr>
          <a:xfrm>
            <a:off x="0" y="0"/>
            <a:ext cx="9147240" cy="62485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29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Rectangle 30"/>
          <p:cNvSpPr/>
          <p:nvPr/>
        </p:nvSpPr>
        <p:spPr>
          <a:xfrm>
            <a:off x="0" y="6019920"/>
            <a:ext cx="9144000" cy="533160"/>
          </a:xfrm>
          <a:prstGeom prst="rect">
            <a:avLst/>
          </a:prstGeom>
          <a:solidFill>
            <a:srgbClr val="584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Rectangle 31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57b2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Text Box 32"/>
          <p:cNvSpPr/>
          <p:nvPr/>
        </p:nvSpPr>
        <p:spPr>
          <a:xfrm>
            <a:off x="14760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Text Box 33"/>
          <p:cNvSpPr/>
          <p:nvPr/>
        </p:nvSpPr>
        <p:spPr>
          <a:xfrm>
            <a:off x="76320" y="4254480"/>
            <a:ext cx="369576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 Narrow"/>
              </a:rPr>
              <a:t>®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Lecture Presentations for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ighth Edition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il Campbell and Jane Reece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Rectangle 34"/>
          <p:cNvSpPr/>
          <p:nvPr/>
        </p:nvSpPr>
        <p:spPr>
          <a:xfrm>
            <a:off x="0" y="6172200"/>
            <a:ext cx="914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ectures by Chris Romero, updated by Erin Barley with contributions from Joan Shar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youtube.com/watch?v=6OPJnO9W_rQ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6280" y="156960"/>
            <a:ext cx="87091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Chapter 14</a:t>
            </a:r>
            <a:endParaRPr b="1" lang="en-US" sz="5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37960" y="1531440"/>
            <a:ext cx="8677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863"/>
              </a:spcBef>
              <a:spcAft>
                <a:spcPts val="1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993366"/>
                </a:solidFill>
                <a:latin typeface="Times New Roman"/>
              </a:rPr>
              <a:t>Mendel and the Gene Idea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205920" y="1174680"/>
            <a:ext cx="853452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ndel developed a hypothesis to explain the 3:1 inheritance pattern he observed in  F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fsp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 related concepts make up this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se concepts can be related to what we now know about genes and chromosom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4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1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14076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Mendel’s Experimental, Quantitative Approach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16000" y="1220760"/>
            <a:ext cx="853416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The first concept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at alternative versions of genes account for variations in inherited charac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the gene for flower color in pea plants exists in two versions, one for purple flowers and the other for white fl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</a:t>
            </a:r>
            <a:r>
              <a:rPr b="0" lang="en-US" sz="2800" spc="-1" strike="noStrike">
                <a:solidFill>
                  <a:srgbClr val="7575d1"/>
                </a:solidFill>
                <a:latin typeface="Arial"/>
              </a:rPr>
              <a:t>alternative versions of a gen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now called </a:t>
            </a:r>
            <a:r>
              <a:rPr b="1" lang="en-US" sz="2800" spc="-1" strike="noStrike">
                <a:solidFill>
                  <a:srgbClr val="7575d1"/>
                </a:solidFill>
                <a:latin typeface="Arial"/>
              </a:rPr>
              <a:t>all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gene resides at a specific locus on a specific chromo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8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6" name="Line 19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Text Box 20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4076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Mendel’s Experimental, Quantitative Approach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7" descr="14_04Alleles-U"/>
          <p:cNvPicPr/>
          <p:nvPr/>
        </p:nvPicPr>
        <p:blipFill>
          <a:blip r:embed="rId1"/>
          <a:stretch/>
        </p:blipFill>
        <p:spPr>
          <a:xfrm>
            <a:off x="297000" y="1638360"/>
            <a:ext cx="8548560" cy="365760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18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indent="6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14-4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4040280" y="1706400"/>
            <a:ext cx="3090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llele for purple flowers</a:t>
            </a:r>
            <a:endParaRPr b="1" lang="en-US" sz="2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2" name="Line 20"/>
          <p:cNvSpPr/>
          <p:nvPr/>
        </p:nvSpPr>
        <p:spPr>
          <a:xfrm>
            <a:off x="5567400" y="2014560"/>
            <a:ext cx="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6973920" y="2925720"/>
            <a:ext cx="18399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Homologous</a:t>
            </a:r>
            <a:endParaRPr b="1" lang="en-US" sz="21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ir of</a:t>
            </a:r>
            <a:endParaRPr b="1" lang="en-US" sz="21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1" lang="en-US" sz="2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AutoShape 22"/>
          <p:cNvSpPr/>
          <p:nvPr/>
        </p:nvSpPr>
        <p:spPr>
          <a:xfrm>
            <a:off x="6673680" y="2146320"/>
            <a:ext cx="152640" cy="2469960"/>
          </a:xfrm>
          <a:custGeom>
            <a:avLst/>
            <a:gdLst>
              <a:gd name="textAreaLeft" fmla="*/ 0 w 152640"/>
              <a:gd name="textAreaRight" fmla="*/ 55080 w 152640"/>
              <a:gd name="textAreaTop" fmla="*/ 64080 h 2469960"/>
              <a:gd name="textAreaBottom" fmla="*/ 2405880 h 246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2046240" y="3262320"/>
            <a:ext cx="35546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ocus for flower-color gene</a:t>
            </a:r>
            <a:endParaRPr b="1" lang="en-US" sz="2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6" name="Line 24"/>
          <p:cNvSpPr/>
          <p:nvPr/>
        </p:nvSpPr>
        <p:spPr>
          <a:xfrm flipV="1">
            <a:off x="5010120" y="2869920"/>
            <a:ext cx="527040" cy="29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Line 25"/>
          <p:cNvSpPr/>
          <p:nvPr/>
        </p:nvSpPr>
        <p:spPr>
          <a:xfrm>
            <a:off x="5003640" y="3562200"/>
            <a:ext cx="527040" cy="292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8" name="Text Box 26"/>
          <p:cNvSpPr/>
          <p:nvPr/>
        </p:nvSpPr>
        <p:spPr>
          <a:xfrm>
            <a:off x="4141800" y="4888080"/>
            <a:ext cx="309096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llele for white flowers</a:t>
            </a:r>
            <a:endParaRPr b="1" lang="en-US" sz="2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9" name="Line 27"/>
          <p:cNvSpPr/>
          <p:nvPr/>
        </p:nvSpPr>
        <p:spPr>
          <a:xfrm>
            <a:off x="5562720" y="4451400"/>
            <a:ext cx="0" cy="387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216000" y="1230480"/>
            <a:ext cx="8534160" cy="49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The second concept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at for each character an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organism inherits two alleles, one from each par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del made this deduction without knowing about the role of chrom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wo alleles at a locus on a chromosome may be identical, as in the true-breeding plants of Mendel’s P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ly, the two alleles at a locus may differ, as in the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ybri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4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2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14076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Mendel’s Experimental, Quantitative Approach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216000" y="1174320"/>
            <a:ext cx="8534160" cy="41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The third concept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at if the two alleles at a locus differ, then one (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ominant alle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determines the organism’s appearance, and the other (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cessive alle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has no noticeable effect on appear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the flower-color example, the F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lants had purple flowers because the allele for that trait is domin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4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4076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Mendel’s Experimental, Quantitative Approach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15640" y="1226880"/>
            <a:ext cx="8623080" cy="56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The fourth concep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now known as the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law of segregation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tates that the two alleles for a heritable character separate (segregate) during gamete formation and end up in different game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us, an egg or a sperm gets only one of the two alleles that are present in the somatic cells of an organis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segregation of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alleles corresponds to the distribution of homologous chromosomes to different gametes in meio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4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2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14076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Mendel’s Experimental, Quantitative Approach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05920" y="1207800"/>
            <a:ext cx="853452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ndel’s segregation model accounts for the 3:1 ratio he observed in the F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eneration of his numerous cro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ossible combinations of sperm and egg can be shown using 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unnett squar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 diagram for predicting the results of a genetic cross between individuals of known genetic make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capital letter represents a dominant allele, and a lowercase letter represents a recessive alle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7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14076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Mendel’s Experimental, Quantitative Approach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2" descr="14_05LawOfSegregation_1-U"/>
          <p:cNvPicPr/>
          <p:nvPr/>
        </p:nvPicPr>
        <p:blipFill>
          <a:blip r:embed="rId1"/>
          <a:stretch/>
        </p:blipFill>
        <p:spPr>
          <a:xfrm>
            <a:off x="2706840" y="171360"/>
            <a:ext cx="3730320" cy="659124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43"/>
          <p:cNvSpPr/>
          <p:nvPr/>
        </p:nvSpPr>
        <p:spPr>
          <a:xfrm>
            <a:off x="2736720" y="291960"/>
            <a:ext cx="1251000" cy="298440"/>
          </a:xfrm>
          <a:prstGeom prst="rect">
            <a:avLst/>
          </a:prstGeom>
          <a:solidFill>
            <a:srgbClr val="aaa7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2" name="Rectangle 44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indent="6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14-5-1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3" name="Text Box 45"/>
          <p:cNvSpPr/>
          <p:nvPr/>
        </p:nvSpPr>
        <p:spPr>
          <a:xfrm>
            <a:off x="2846520" y="372960"/>
            <a:ext cx="103968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 Generation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Text Box 46"/>
          <p:cNvSpPr/>
          <p:nvPr/>
        </p:nvSpPr>
        <p:spPr>
          <a:xfrm>
            <a:off x="2801880" y="988920"/>
            <a:ext cx="10400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ppearance: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5" name="Text Box 47"/>
          <p:cNvSpPr/>
          <p:nvPr/>
        </p:nvSpPr>
        <p:spPr>
          <a:xfrm>
            <a:off x="2801880" y="1173240"/>
            <a:ext cx="13446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enetic makeup: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6" name="Text Box 48"/>
          <p:cNvSpPr/>
          <p:nvPr/>
        </p:nvSpPr>
        <p:spPr>
          <a:xfrm>
            <a:off x="2801880" y="1535040"/>
            <a:ext cx="7668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ametes: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7" name="Text Box 49"/>
          <p:cNvSpPr/>
          <p:nvPr/>
        </p:nvSpPr>
        <p:spPr>
          <a:xfrm>
            <a:off x="4103640" y="982800"/>
            <a:ext cx="115416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urple flowers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8" name="Text Box 50"/>
          <p:cNvSpPr/>
          <p:nvPr/>
        </p:nvSpPr>
        <p:spPr>
          <a:xfrm>
            <a:off x="5329080" y="988920"/>
            <a:ext cx="115416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hite flowers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9" name="Text Box 51"/>
          <p:cNvSpPr/>
          <p:nvPr/>
        </p:nvSpPr>
        <p:spPr>
          <a:xfrm>
            <a:off x="4668840" y="1173240"/>
            <a:ext cx="20808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NewRomanPS"/>
              </a:rPr>
              <a:t>PP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0" name="Text Box 52"/>
          <p:cNvSpPr/>
          <p:nvPr/>
        </p:nvSpPr>
        <p:spPr>
          <a:xfrm>
            <a:off x="4630680" y="1547640"/>
            <a:ext cx="1191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NewRomanPS"/>
              </a:rPr>
              <a:t>P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1" name="Text Box 53"/>
          <p:cNvSpPr/>
          <p:nvPr/>
        </p:nvSpPr>
        <p:spPr>
          <a:xfrm>
            <a:off x="5862600" y="1179360"/>
            <a:ext cx="15732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NewRomanPS"/>
              </a:rPr>
              <a:t>pp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2" name="Text Box 54"/>
          <p:cNvSpPr/>
          <p:nvPr/>
        </p:nvSpPr>
        <p:spPr>
          <a:xfrm>
            <a:off x="5761080" y="1522440"/>
            <a:ext cx="1000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NewRomanPS"/>
              </a:rPr>
              <a:t>p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5" descr="14_05LawOfSegregation_2-U"/>
          <p:cNvPicPr/>
          <p:nvPr/>
        </p:nvPicPr>
        <p:blipFill>
          <a:blip r:embed="rId1"/>
          <a:stretch/>
        </p:blipFill>
        <p:spPr>
          <a:xfrm>
            <a:off x="2706840" y="171360"/>
            <a:ext cx="3730320" cy="659124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16"/>
          <p:cNvSpPr/>
          <p:nvPr/>
        </p:nvSpPr>
        <p:spPr>
          <a:xfrm>
            <a:off x="2735280" y="2476440"/>
            <a:ext cx="1239840" cy="304920"/>
          </a:xfrm>
          <a:prstGeom prst="rect">
            <a:avLst/>
          </a:prstGeom>
          <a:solidFill>
            <a:srgbClr val="aaa7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5" name="Rectangle 17"/>
          <p:cNvSpPr/>
          <p:nvPr/>
        </p:nvSpPr>
        <p:spPr>
          <a:xfrm>
            <a:off x="2736720" y="291960"/>
            <a:ext cx="1251000" cy="298440"/>
          </a:xfrm>
          <a:prstGeom prst="rect">
            <a:avLst/>
          </a:prstGeom>
          <a:solidFill>
            <a:srgbClr val="aaa7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6" name="Rectangle 18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indent="6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14-5-2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7" name="Text Box 19"/>
          <p:cNvSpPr/>
          <p:nvPr/>
        </p:nvSpPr>
        <p:spPr>
          <a:xfrm>
            <a:off x="2846520" y="372960"/>
            <a:ext cx="103968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 Generation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8" name="Text Box 20"/>
          <p:cNvSpPr/>
          <p:nvPr/>
        </p:nvSpPr>
        <p:spPr>
          <a:xfrm>
            <a:off x="2801880" y="988920"/>
            <a:ext cx="10400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ppearance: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9" name="Text Box 21"/>
          <p:cNvSpPr/>
          <p:nvPr/>
        </p:nvSpPr>
        <p:spPr>
          <a:xfrm>
            <a:off x="2801880" y="1173240"/>
            <a:ext cx="13446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enetic makeup: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0" name="Text Box 22"/>
          <p:cNvSpPr/>
          <p:nvPr/>
        </p:nvSpPr>
        <p:spPr>
          <a:xfrm>
            <a:off x="2801880" y="1535040"/>
            <a:ext cx="7668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ametes: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1" name="Text Box 23"/>
          <p:cNvSpPr/>
          <p:nvPr/>
        </p:nvSpPr>
        <p:spPr>
          <a:xfrm>
            <a:off x="4103640" y="982800"/>
            <a:ext cx="115416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urple flowers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2" name="Text Box 24"/>
          <p:cNvSpPr/>
          <p:nvPr/>
        </p:nvSpPr>
        <p:spPr>
          <a:xfrm>
            <a:off x="5329080" y="988920"/>
            <a:ext cx="115416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hite flowers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3" name="Text Box 25"/>
          <p:cNvSpPr/>
          <p:nvPr/>
        </p:nvSpPr>
        <p:spPr>
          <a:xfrm>
            <a:off x="4668840" y="1173240"/>
            <a:ext cx="20808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NewRomanPS"/>
              </a:rPr>
              <a:t>PP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4" name="Text Box 26"/>
          <p:cNvSpPr/>
          <p:nvPr/>
        </p:nvSpPr>
        <p:spPr>
          <a:xfrm>
            <a:off x="4630680" y="1547640"/>
            <a:ext cx="1191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NewRomanPS"/>
              </a:rPr>
              <a:t>P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Text Box 27"/>
          <p:cNvSpPr/>
          <p:nvPr/>
        </p:nvSpPr>
        <p:spPr>
          <a:xfrm>
            <a:off x="5862600" y="1179360"/>
            <a:ext cx="15732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NewRomanPS"/>
              </a:rPr>
              <a:t>pp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6" name="Text Box 28"/>
          <p:cNvSpPr/>
          <p:nvPr/>
        </p:nvSpPr>
        <p:spPr>
          <a:xfrm>
            <a:off x="5761080" y="1522440"/>
            <a:ext cx="1000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NewRomanPS"/>
              </a:rPr>
              <a:t>p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7" name="Text Box 29"/>
          <p:cNvSpPr/>
          <p:nvPr/>
        </p:nvSpPr>
        <p:spPr>
          <a:xfrm>
            <a:off x="2828880" y="2532240"/>
            <a:ext cx="10731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3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Generation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8" name="Text Box 30"/>
          <p:cNvSpPr/>
          <p:nvPr/>
        </p:nvSpPr>
        <p:spPr>
          <a:xfrm>
            <a:off x="2800440" y="3643200"/>
            <a:ext cx="7668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ametes: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9" name="Text Box 31"/>
          <p:cNvSpPr/>
          <p:nvPr/>
        </p:nvSpPr>
        <p:spPr>
          <a:xfrm>
            <a:off x="2809800" y="3279600"/>
            <a:ext cx="13446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enetic makeup: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0" name="Text Box 32"/>
          <p:cNvSpPr/>
          <p:nvPr/>
        </p:nvSpPr>
        <p:spPr>
          <a:xfrm>
            <a:off x="2809800" y="3097080"/>
            <a:ext cx="104004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ppearance: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1" name="Text Box 33"/>
          <p:cNvSpPr/>
          <p:nvPr/>
        </p:nvSpPr>
        <p:spPr>
          <a:xfrm>
            <a:off x="4591080" y="3116160"/>
            <a:ext cx="115416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urple flowers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2" name="Text Box 34"/>
          <p:cNvSpPr/>
          <p:nvPr/>
        </p:nvSpPr>
        <p:spPr>
          <a:xfrm>
            <a:off x="5065560" y="3314880"/>
            <a:ext cx="20808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NewRomanPS"/>
              </a:rPr>
              <a:t>Pp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3" name="Text Box 35"/>
          <p:cNvSpPr/>
          <p:nvPr/>
        </p:nvSpPr>
        <p:spPr>
          <a:xfrm>
            <a:off x="4621320" y="3665520"/>
            <a:ext cx="1188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NewRomanPS"/>
              </a:rPr>
              <a:t>P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4" name="Text Box 36"/>
          <p:cNvSpPr/>
          <p:nvPr/>
        </p:nvSpPr>
        <p:spPr>
          <a:xfrm>
            <a:off x="5753160" y="3632040"/>
            <a:ext cx="100080" cy="1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NewRomanPS"/>
              </a:rPr>
              <a:t>p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5" name="Text Box 37"/>
          <p:cNvSpPr/>
          <p:nvPr/>
        </p:nvSpPr>
        <p:spPr>
          <a:xfrm>
            <a:off x="4311720" y="3652920"/>
            <a:ext cx="25884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6" name="Text Box 38"/>
          <p:cNvSpPr/>
          <p:nvPr/>
        </p:nvSpPr>
        <p:spPr>
          <a:xfrm>
            <a:off x="5425920" y="3645000"/>
            <a:ext cx="25884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6" descr="14_05LawOfSegregation_3-U"/>
          <p:cNvPicPr/>
          <p:nvPr/>
        </p:nvPicPr>
        <p:blipFill>
          <a:blip r:embed="rId1"/>
          <a:stretch/>
        </p:blipFill>
        <p:spPr>
          <a:xfrm>
            <a:off x="2706840" y="171360"/>
            <a:ext cx="3730320" cy="659124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27"/>
          <p:cNvSpPr/>
          <p:nvPr/>
        </p:nvSpPr>
        <p:spPr>
          <a:xfrm>
            <a:off x="2730600" y="4305240"/>
            <a:ext cx="1257120" cy="304920"/>
          </a:xfrm>
          <a:prstGeom prst="rect">
            <a:avLst/>
          </a:prstGeom>
          <a:solidFill>
            <a:srgbClr val="aaa7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9" name="Rectangle 28"/>
          <p:cNvSpPr/>
          <p:nvPr/>
        </p:nvSpPr>
        <p:spPr>
          <a:xfrm>
            <a:off x="2735280" y="2476440"/>
            <a:ext cx="1239840" cy="304920"/>
          </a:xfrm>
          <a:prstGeom prst="rect">
            <a:avLst/>
          </a:prstGeom>
          <a:solidFill>
            <a:srgbClr val="aaa7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0" name="Rectangle 29"/>
          <p:cNvSpPr/>
          <p:nvPr/>
        </p:nvSpPr>
        <p:spPr>
          <a:xfrm>
            <a:off x="2736720" y="291960"/>
            <a:ext cx="1251000" cy="298440"/>
          </a:xfrm>
          <a:prstGeom prst="rect">
            <a:avLst/>
          </a:prstGeom>
          <a:solidFill>
            <a:srgbClr val="aaa7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1" name="Rectangle 30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indent="6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14-5-3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2" name="Text Box 31"/>
          <p:cNvSpPr/>
          <p:nvPr/>
        </p:nvSpPr>
        <p:spPr>
          <a:xfrm>
            <a:off x="2846520" y="372960"/>
            <a:ext cx="103968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 Generation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3" name="Text Box 32"/>
          <p:cNvSpPr/>
          <p:nvPr/>
        </p:nvSpPr>
        <p:spPr>
          <a:xfrm>
            <a:off x="2801880" y="988920"/>
            <a:ext cx="10400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ppearance: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4" name="Text Box 33"/>
          <p:cNvSpPr/>
          <p:nvPr/>
        </p:nvSpPr>
        <p:spPr>
          <a:xfrm>
            <a:off x="2801880" y="1173240"/>
            <a:ext cx="13446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enetic makeup: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5" name="Text Box 34"/>
          <p:cNvSpPr/>
          <p:nvPr/>
        </p:nvSpPr>
        <p:spPr>
          <a:xfrm>
            <a:off x="2801880" y="1535040"/>
            <a:ext cx="7668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ametes: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6" name="Text Box 35"/>
          <p:cNvSpPr/>
          <p:nvPr/>
        </p:nvSpPr>
        <p:spPr>
          <a:xfrm>
            <a:off x="4103640" y="982800"/>
            <a:ext cx="115416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urple flowers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Text Box 36"/>
          <p:cNvSpPr/>
          <p:nvPr/>
        </p:nvSpPr>
        <p:spPr>
          <a:xfrm>
            <a:off x="5329080" y="988920"/>
            <a:ext cx="115416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hite flowers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8" name="Text Box 37"/>
          <p:cNvSpPr/>
          <p:nvPr/>
        </p:nvSpPr>
        <p:spPr>
          <a:xfrm>
            <a:off x="4668840" y="1173240"/>
            <a:ext cx="20808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NewRomanPS"/>
              </a:rPr>
              <a:t>PP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9" name="Text Box 38"/>
          <p:cNvSpPr/>
          <p:nvPr/>
        </p:nvSpPr>
        <p:spPr>
          <a:xfrm>
            <a:off x="4630680" y="1547640"/>
            <a:ext cx="1191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NewRomanPS"/>
              </a:rPr>
              <a:t>P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0" name="Text Box 39"/>
          <p:cNvSpPr/>
          <p:nvPr/>
        </p:nvSpPr>
        <p:spPr>
          <a:xfrm>
            <a:off x="5862600" y="1179360"/>
            <a:ext cx="15732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NewRomanPS"/>
              </a:rPr>
              <a:t>pp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Text Box 40"/>
          <p:cNvSpPr/>
          <p:nvPr/>
        </p:nvSpPr>
        <p:spPr>
          <a:xfrm>
            <a:off x="5761080" y="1522440"/>
            <a:ext cx="1000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NewRomanPS"/>
              </a:rPr>
              <a:t>p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2" name="Text Box 41"/>
          <p:cNvSpPr/>
          <p:nvPr/>
        </p:nvSpPr>
        <p:spPr>
          <a:xfrm>
            <a:off x="2828880" y="2532240"/>
            <a:ext cx="10731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3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Generation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3" name="Text Box 42"/>
          <p:cNvSpPr/>
          <p:nvPr/>
        </p:nvSpPr>
        <p:spPr>
          <a:xfrm>
            <a:off x="2800440" y="3643200"/>
            <a:ext cx="7668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ametes: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Text Box 43"/>
          <p:cNvSpPr/>
          <p:nvPr/>
        </p:nvSpPr>
        <p:spPr>
          <a:xfrm>
            <a:off x="2809800" y="3279600"/>
            <a:ext cx="13446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enetic makeup: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5" name="Text Box 44"/>
          <p:cNvSpPr/>
          <p:nvPr/>
        </p:nvSpPr>
        <p:spPr>
          <a:xfrm>
            <a:off x="2809800" y="3097080"/>
            <a:ext cx="104004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ppearance: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Text Box 45"/>
          <p:cNvSpPr/>
          <p:nvPr/>
        </p:nvSpPr>
        <p:spPr>
          <a:xfrm>
            <a:off x="4591080" y="3116160"/>
            <a:ext cx="115416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urple flowers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7" name="Text Box 46"/>
          <p:cNvSpPr/>
          <p:nvPr/>
        </p:nvSpPr>
        <p:spPr>
          <a:xfrm>
            <a:off x="5065560" y="3314880"/>
            <a:ext cx="20808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NewRomanPS"/>
              </a:rPr>
              <a:t>Pp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8" name="Text Box 47"/>
          <p:cNvSpPr/>
          <p:nvPr/>
        </p:nvSpPr>
        <p:spPr>
          <a:xfrm>
            <a:off x="4627440" y="3665520"/>
            <a:ext cx="1191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NewRomanPS"/>
              </a:rPr>
              <a:t>P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9" name="Text Box 48"/>
          <p:cNvSpPr/>
          <p:nvPr/>
        </p:nvSpPr>
        <p:spPr>
          <a:xfrm>
            <a:off x="5753160" y="3632040"/>
            <a:ext cx="100080" cy="1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NewRomanPS"/>
              </a:rPr>
              <a:t>p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0" name="Text Box 49"/>
          <p:cNvSpPr/>
          <p:nvPr/>
        </p:nvSpPr>
        <p:spPr>
          <a:xfrm>
            <a:off x="4311720" y="3652920"/>
            <a:ext cx="25884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1" name="Text Box 50"/>
          <p:cNvSpPr/>
          <p:nvPr/>
        </p:nvSpPr>
        <p:spPr>
          <a:xfrm>
            <a:off x="5425920" y="3645000"/>
            <a:ext cx="25884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2" name="Text Box 51"/>
          <p:cNvSpPr/>
          <p:nvPr/>
        </p:nvSpPr>
        <p:spPr>
          <a:xfrm>
            <a:off x="2797200" y="4361040"/>
            <a:ext cx="10731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3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Generation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3" name="Text Box 52"/>
          <p:cNvSpPr/>
          <p:nvPr/>
        </p:nvSpPr>
        <p:spPr>
          <a:xfrm>
            <a:off x="4991040" y="4125960"/>
            <a:ext cx="5382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perm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4" name="Text Box 53"/>
          <p:cNvSpPr/>
          <p:nvPr/>
        </p:nvSpPr>
        <p:spPr>
          <a:xfrm>
            <a:off x="3930480" y="5275440"/>
            <a:ext cx="4176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ggs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5" name="Text Box 54"/>
          <p:cNvSpPr/>
          <p:nvPr/>
        </p:nvSpPr>
        <p:spPr>
          <a:xfrm>
            <a:off x="4843440" y="4414680"/>
            <a:ext cx="1191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NewRomanPS"/>
              </a:rPr>
              <a:t>P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6" name="Text Box 55"/>
          <p:cNvSpPr/>
          <p:nvPr/>
        </p:nvSpPr>
        <p:spPr>
          <a:xfrm>
            <a:off x="4303800" y="4960800"/>
            <a:ext cx="1188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NewRomanPS"/>
              </a:rPr>
              <a:t>P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7" name="Text Box 56"/>
          <p:cNvSpPr/>
          <p:nvPr/>
        </p:nvSpPr>
        <p:spPr>
          <a:xfrm>
            <a:off x="4782960" y="5154480"/>
            <a:ext cx="20808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NewRomanPS"/>
              </a:rPr>
              <a:t>PP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8" name="Text Box 57"/>
          <p:cNvSpPr/>
          <p:nvPr/>
        </p:nvSpPr>
        <p:spPr>
          <a:xfrm>
            <a:off x="5468760" y="5154480"/>
            <a:ext cx="20808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NewRomanPS"/>
              </a:rPr>
              <a:t>Pp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9" name="Text Box 58"/>
          <p:cNvSpPr/>
          <p:nvPr/>
        </p:nvSpPr>
        <p:spPr>
          <a:xfrm>
            <a:off x="5492880" y="4387680"/>
            <a:ext cx="99720" cy="1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NewRomanPS"/>
              </a:rPr>
              <a:t>p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0" name="Text Box 59"/>
          <p:cNvSpPr/>
          <p:nvPr/>
        </p:nvSpPr>
        <p:spPr>
          <a:xfrm>
            <a:off x="4317840" y="5613480"/>
            <a:ext cx="1000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NewRomanPS"/>
              </a:rPr>
              <a:t>p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1" name="Text Box 60"/>
          <p:cNvSpPr/>
          <p:nvPr/>
        </p:nvSpPr>
        <p:spPr>
          <a:xfrm>
            <a:off x="4789440" y="5808600"/>
            <a:ext cx="20808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NewRomanPS"/>
              </a:rPr>
              <a:t>Pp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2" name="Text Box 61"/>
          <p:cNvSpPr/>
          <p:nvPr/>
        </p:nvSpPr>
        <p:spPr>
          <a:xfrm>
            <a:off x="5479920" y="5803920"/>
            <a:ext cx="15732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NewRomanPS"/>
              </a:rPr>
              <a:t>pp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3" name="Text Box 62"/>
          <p:cNvSpPr/>
          <p:nvPr/>
        </p:nvSpPr>
        <p:spPr>
          <a:xfrm>
            <a:off x="4572000" y="6356520"/>
            <a:ext cx="1000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4" name="Text Box 63"/>
          <p:cNvSpPr/>
          <p:nvPr/>
        </p:nvSpPr>
        <p:spPr>
          <a:xfrm>
            <a:off x="5232240" y="6356520"/>
            <a:ext cx="1000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You should now be able to: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17080" y="1174320"/>
            <a:ext cx="8534520" cy="45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12"/>
              </a:spcBef>
              <a:spcAft>
                <a:spcPts val="4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the following terms: true breeding, hybridization, monohybrid cross, P generation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neration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12"/>
              </a:spcBef>
              <a:spcAft>
                <a:spcPts val="4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inguish between the following pairs of terms: dominant and recessive; heterozygous and homozygous; genotype and phenoty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12"/>
              </a:spcBef>
              <a:spcAft>
                <a:spcPts val="4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 Punnett square to predict the results of a cross and to state the phenotypic and genotypic ratios of the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ne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012"/>
              </a:spcBef>
              <a:spcAft>
                <a:spcPts val="451"/>
              </a:spcAft>
              <a:buClr>
                <a:srgbClr val="3333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how phenotypic expression in the heterozygote differs with complete dominance, incomplete dominance, and codom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012"/>
              </a:spcBef>
              <a:spcAft>
                <a:spcPts val="451"/>
              </a:spcAft>
              <a:buClr>
                <a:srgbClr val="3333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nd give examples of pleiotropy and epist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012"/>
              </a:spcBef>
              <a:spcAft>
                <a:spcPts val="451"/>
              </a:spcAft>
              <a:buClr>
                <a:srgbClr val="3333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why lethal dominant genes are much rarer than lethal recessive ge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012"/>
              </a:spcBef>
              <a:spcAft>
                <a:spcPts val="451"/>
              </a:spcAft>
              <a:buClr>
                <a:srgbClr val="3333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how carrier recognition, fetal testing, and newborn screening can be used in genetic screening and couns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4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024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Useful Genetic Vocabular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6000" y="1174680"/>
            <a:ext cx="8928000" cy="31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rganism with </a:t>
            </a:r>
            <a:r>
              <a:rPr b="0" lang="en-US" sz="2400" spc="-1" strike="noStrike">
                <a:solidFill>
                  <a:srgbClr val="7575d1"/>
                </a:solidFill>
                <a:latin typeface="Arial"/>
              </a:rPr>
              <a:t>two identical allel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character is said to be </a:t>
            </a:r>
            <a:r>
              <a:rPr b="1" lang="en-US" sz="2400" spc="-1" strike="noStrike">
                <a:solidFill>
                  <a:srgbClr val="7575d1"/>
                </a:solidFill>
                <a:latin typeface="Arial"/>
              </a:rPr>
              <a:t>homozyg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gene controlling that charac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ther homozygous recessive or homozygous domina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rganism that has </a:t>
            </a:r>
            <a:r>
              <a:rPr b="0" lang="en-US" sz="2400" spc="-1" strike="noStrike">
                <a:solidFill>
                  <a:srgbClr val="7575d1"/>
                </a:solidFill>
                <a:latin typeface="Arial"/>
              </a:rPr>
              <a:t>two different allel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gene is said to be </a:t>
            </a:r>
            <a:r>
              <a:rPr b="1" lang="en-US" sz="2400" spc="-1" strike="noStrike">
                <a:solidFill>
                  <a:srgbClr val="7575d1"/>
                </a:solidFill>
                <a:latin typeface="Arial"/>
              </a:rPr>
              <a:t>heterozyg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gene controlling that charac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ike homozygotes, heterozygotes are not true-breeding (can also be called carriers or hybri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4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8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914400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cause of the different effects of dominant and recessive alleles, an organism’s traits do not always reveal its genetic compos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fore, we distinguish between an organism’s </a:t>
            </a:r>
            <a:r>
              <a:rPr b="1" lang="en-US" sz="3000" spc="-1" strike="noStrike">
                <a:solidFill>
                  <a:srgbClr val="7575d1"/>
                </a:solidFill>
                <a:latin typeface="Arial"/>
              </a:rPr>
              <a:t>phenotype</a:t>
            </a:r>
            <a:r>
              <a:rPr b="0" lang="en-US" sz="3000" spc="-1" strike="noStrike">
                <a:solidFill>
                  <a:srgbClr val="7575d1"/>
                </a:solidFill>
                <a:latin typeface="Arial"/>
              </a:rPr>
              <a:t>, or physical appeara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nd its </a:t>
            </a:r>
            <a:r>
              <a:rPr b="1" lang="en-US" sz="3000" spc="-1" strike="noStrike">
                <a:solidFill>
                  <a:srgbClr val="6600cc"/>
                </a:solidFill>
                <a:latin typeface="Arial"/>
              </a:rPr>
              <a:t>genotype</a:t>
            </a:r>
            <a:r>
              <a:rPr b="0" lang="en-US" sz="3000" spc="-1" strike="noStrike">
                <a:solidFill>
                  <a:srgbClr val="6600cc"/>
                </a:solidFill>
                <a:latin typeface="Arial"/>
              </a:rPr>
              <a:t>, or genetic make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the example of flower color in pea plants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P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lants have the same phenotype (purple) but different genotyp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4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2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12024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Useful Genetic Vocabular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32" descr="14_06PhenotypeVGenotype-U"/>
          <p:cNvPicPr/>
          <p:nvPr/>
        </p:nvPicPr>
        <p:blipFill>
          <a:blip r:embed="rId1"/>
          <a:stretch/>
        </p:blipFill>
        <p:spPr>
          <a:xfrm>
            <a:off x="865080" y="177840"/>
            <a:ext cx="7413840" cy="657864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33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indent="6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14-6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7" name="Text Box 34"/>
          <p:cNvSpPr/>
          <p:nvPr/>
        </p:nvSpPr>
        <p:spPr>
          <a:xfrm>
            <a:off x="1990800" y="222120"/>
            <a:ext cx="13953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1" lang="en-US" sz="1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8" name="Text Box 35"/>
          <p:cNvSpPr/>
          <p:nvPr/>
        </p:nvSpPr>
        <p:spPr>
          <a:xfrm>
            <a:off x="2224080" y="1100160"/>
            <a:ext cx="77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urple</a:t>
            </a:r>
            <a:endParaRPr b="1" lang="en-US" sz="1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9" name="Text Box 36"/>
          <p:cNvSpPr/>
          <p:nvPr/>
        </p:nvSpPr>
        <p:spPr>
          <a:xfrm>
            <a:off x="2212920" y="2563920"/>
            <a:ext cx="77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urple</a:t>
            </a:r>
            <a:endParaRPr b="1" lang="en-US" sz="1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0" name="Text Box 37"/>
          <p:cNvSpPr/>
          <p:nvPr/>
        </p:nvSpPr>
        <p:spPr>
          <a:xfrm>
            <a:off x="893880" y="2560680"/>
            <a:ext cx="1555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1" name="Text Box 38"/>
          <p:cNvSpPr/>
          <p:nvPr/>
        </p:nvSpPr>
        <p:spPr>
          <a:xfrm>
            <a:off x="2212920" y="3838680"/>
            <a:ext cx="770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urple</a:t>
            </a:r>
            <a:endParaRPr b="1" lang="en-US" sz="1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2" name="Text Box 39"/>
          <p:cNvSpPr/>
          <p:nvPr/>
        </p:nvSpPr>
        <p:spPr>
          <a:xfrm>
            <a:off x="6041880" y="235080"/>
            <a:ext cx="11923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Genotype</a:t>
            </a:r>
            <a:endParaRPr b="1" lang="en-US" sz="1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3" name="Text Box 40"/>
          <p:cNvSpPr/>
          <p:nvPr/>
        </p:nvSpPr>
        <p:spPr>
          <a:xfrm>
            <a:off x="893880" y="5405400"/>
            <a:ext cx="1555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4" name="Text Box 41"/>
          <p:cNvSpPr/>
          <p:nvPr/>
        </p:nvSpPr>
        <p:spPr>
          <a:xfrm>
            <a:off x="2276640" y="5375160"/>
            <a:ext cx="6807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1" lang="en-US" sz="1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5" name="Text Box 42"/>
          <p:cNvSpPr/>
          <p:nvPr/>
        </p:nvSpPr>
        <p:spPr>
          <a:xfrm>
            <a:off x="2098800" y="6353280"/>
            <a:ext cx="10238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atio 3:1</a:t>
            </a:r>
            <a:endParaRPr b="1" lang="en-US" sz="1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6" name="AutoShape 43"/>
          <p:cNvSpPr/>
          <p:nvPr/>
        </p:nvSpPr>
        <p:spPr>
          <a:xfrm>
            <a:off x="1079640" y="558720"/>
            <a:ext cx="291960" cy="4191120"/>
          </a:xfrm>
          <a:custGeom>
            <a:avLst/>
            <a:gdLst>
              <a:gd name="textAreaLeft" fmla="*/ 186480 w 291960"/>
              <a:gd name="textAreaRight" fmla="*/ 292320 w 29196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7" name="AutoShape 44"/>
          <p:cNvSpPr/>
          <p:nvPr/>
        </p:nvSpPr>
        <p:spPr>
          <a:xfrm>
            <a:off x="1092240" y="4838760"/>
            <a:ext cx="216000" cy="13078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3840 h 1307880"/>
              <a:gd name="textAreaBottom" fmla="*/ 1274040 h 1307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8" name="Text Box 45"/>
          <p:cNvSpPr/>
          <p:nvPr/>
        </p:nvSpPr>
        <p:spPr>
          <a:xfrm>
            <a:off x="5805360" y="1303200"/>
            <a:ext cx="16462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homozygous)</a:t>
            </a:r>
            <a:endParaRPr b="1" lang="en-US" sz="1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9" name="Text Box 46"/>
          <p:cNvSpPr/>
          <p:nvPr/>
        </p:nvSpPr>
        <p:spPr>
          <a:xfrm>
            <a:off x="5805360" y="5532480"/>
            <a:ext cx="16462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homozygous)</a:t>
            </a:r>
            <a:endParaRPr b="1" lang="en-US" sz="1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0" name="Text Box 47"/>
          <p:cNvSpPr/>
          <p:nvPr/>
        </p:nvSpPr>
        <p:spPr>
          <a:xfrm>
            <a:off x="5792760" y="2776680"/>
            <a:ext cx="164628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heterozygous)</a:t>
            </a:r>
            <a:endParaRPr b="1" lang="en-US" sz="1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1" name="Text Box 48"/>
          <p:cNvSpPr/>
          <p:nvPr/>
        </p:nvSpPr>
        <p:spPr>
          <a:xfrm>
            <a:off x="5780160" y="4046400"/>
            <a:ext cx="16462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heterozygous)</a:t>
            </a:r>
            <a:endParaRPr b="1" lang="en-US" sz="1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2" name="Text Box 49"/>
          <p:cNvSpPr/>
          <p:nvPr/>
        </p:nvSpPr>
        <p:spPr>
          <a:xfrm>
            <a:off x="6440400" y="1036800"/>
            <a:ext cx="32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NewRomanPS"/>
              </a:rPr>
              <a:t>PP</a:t>
            </a:r>
            <a:endParaRPr b="1" lang="en-US" sz="1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3" name="Text Box 50"/>
          <p:cNvSpPr/>
          <p:nvPr/>
        </p:nvSpPr>
        <p:spPr>
          <a:xfrm>
            <a:off x="6465960" y="2509920"/>
            <a:ext cx="32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NewRomanPS"/>
              </a:rPr>
              <a:t>Pp</a:t>
            </a:r>
            <a:endParaRPr b="1" lang="en-US" sz="1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4" name="Text Box 51"/>
          <p:cNvSpPr/>
          <p:nvPr/>
        </p:nvSpPr>
        <p:spPr>
          <a:xfrm>
            <a:off x="6465960" y="3780000"/>
            <a:ext cx="32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NewRomanPS"/>
              </a:rPr>
              <a:t>Pp</a:t>
            </a:r>
            <a:endParaRPr b="1" lang="en-US" sz="1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5" name="Text Box 52"/>
          <p:cNvSpPr/>
          <p:nvPr/>
        </p:nvSpPr>
        <p:spPr>
          <a:xfrm>
            <a:off x="6478560" y="5265720"/>
            <a:ext cx="32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NewRomanPS"/>
              </a:rPr>
              <a:t>pp</a:t>
            </a:r>
            <a:endParaRPr b="1" lang="en-US" sz="1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6" name="Text Box 53"/>
          <p:cNvSpPr/>
          <p:nvPr/>
        </p:nvSpPr>
        <p:spPr>
          <a:xfrm>
            <a:off x="6022800" y="6378480"/>
            <a:ext cx="1239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atio 1:2:1</a:t>
            </a:r>
            <a:endParaRPr b="1" lang="en-US" sz="1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7" name="Text Box 54"/>
          <p:cNvSpPr/>
          <p:nvPr/>
        </p:nvSpPr>
        <p:spPr>
          <a:xfrm>
            <a:off x="8120160" y="1163520"/>
            <a:ext cx="1555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8" name="Text Box 55"/>
          <p:cNvSpPr/>
          <p:nvPr/>
        </p:nvSpPr>
        <p:spPr>
          <a:xfrm>
            <a:off x="8120160" y="5430960"/>
            <a:ext cx="1555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9" name="Text Box 56"/>
          <p:cNvSpPr/>
          <p:nvPr/>
        </p:nvSpPr>
        <p:spPr>
          <a:xfrm>
            <a:off x="8107200" y="3284640"/>
            <a:ext cx="1558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0" name="AutoShape 57"/>
          <p:cNvSpPr/>
          <p:nvPr/>
        </p:nvSpPr>
        <p:spPr>
          <a:xfrm>
            <a:off x="7899480" y="596880"/>
            <a:ext cx="190440" cy="1308240"/>
          </a:xfrm>
          <a:custGeom>
            <a:avLst/>
            <a:gdLst>
              <a:gd name="textAreaLeft" fmla="*/ 0 w 190440"/>
              <a:gd name="textAreaRight" fmla="*/ 68760 w 190440"/>
              <a:gd name="textAreaTop" fmla="*/ 33840 h 1308240"/>
              <a:gd name="textAreaBottom" fmla="*/ 1274400 h 130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1" name="AutoShape 58"/>
          <p:cNvSpPr/>
          <p:nvPr/>
        </p:nvSpPr>
        <p:spPr>
          <a:xfrm>
            <a:off x="7861320" y="1968480"/>
            <a:ext cx="228600" cy="2819520"/>
          </a:xfrm>
          <a:custGeom>
            <a:avLst/>
            <a:gdLst>
              <a:gd name="textAreaLeft" fmla="*/ 0 w 228600"/>
              <a:gd name="textAreaRight" fmla="*/ 82440 w 22860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2" name="AutoShape 59"/>
          <p:cNvSpPr/>
          <p:nvPr/>
        </p:nvSpPr>
        <p:spPr>
          <a:xfrm>
            <a:off x="7886880" y="4876920"/>
            <a:ext cx="190440" cy="1307880"/>
          </a:xfrm>
          <a:custGeom>
            <a:avLst/>
            <a:gdLst>
              <a:gd name="textAreaLeft" fmla="*/ 0 w 190440"/>
              <a:gd name="textAreaRight" fmla="*/ 68760 w 190440"/>
              <a:gd name="textAreaTop" fmla="*/ 33840 h 1307880"/>
              <a:gd name="textAreaBottom" fmla="*/ 1274040 h 1307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9160" y="76320"/>
            <a:ext cx="8534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The Testcros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-360" y="1181160"/>
            <a:ext cx="91314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5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can we tell the genotype of an individual with the dominant phenotyp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5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ch an individual must have one dominant allele, but the individual could be either homozygous dominant or heterozygo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5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answer is to carry out a </a:t>
            </a:r>
            <a:r>
              <a:rPr b="1" lang="en-US" sz="3000" spc="-1" strike="noStrike">
                <a:solidFill>
                  <a:srgbClr val="6600cc"/>
                </a:solidFill>
                <a:latin typeface="Arial"/>
              </a:rPr>
              <a:t>testcross</a:t>
            </a:r>
            <a:r>
              <a:rPr b="0" lang="en-US" sz="3000" spc="-1" strike="noStrike">
                <a:solidFill>
                  <a:srgbClr val="6600cc"/>
                </a:solidFill>
                <a:latin typeface="Arial"/>
              </a:rPr>
              <a:t>: breeding the</a:t>
            </a:r>
            <a:r>
              <a:rPr b="1" lang="en-US" sz="3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6600cc"/>
                </a:solidFill>
                <a:latin typeface="Arial"/>
              </a:rPr>
              <a:t>mystery individual with a homozygous recessive individu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5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any offspring display the recessive phenotype, the mystery parent must be heterozygo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31" descr="14_07-Testcross-U"/>
          <p:cNvPicPr/>
          <p:nvPr/>
        </p:nvPicPr>
        <p:blipFill>
          <a:blip r:embed="rId1"/>
          <a:stretch/>
        </p:blipFill>
        <p:spPr>
          <a:xfrm>
            <a:off x="2178000" y="168120"/>
            <a:ext cx="4786200" cy="659772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32"/>
          <p:cNvSpPr/>
          <p:nvPr/>
        </p:nvSpPr>
        <p:spPr>
          <a:xfrm>
            <a:off x="2235240" y="5092560"/>
            <a:ext cx="1968480" cy="336600"/>
          </a:xfrm>
          <a:prstGeom prst="rect">
            <a:avLst/>
          </a:prstGeom>
          <a:solidFill>
            <a:srgbClr val="fecd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0" name="Rectangle 33"/>
          <p:cNvSpPr/>
          <p:nvPr/>
        </p:nvSpPr>
        <p:spPr>
          <a:xfrm>
            <a:off x="2235240" y="209520"/>
            <a:ext cx="1962000" cy="336600"/>
          </a:xfrm>
          <a:prstGeom prst="rect">
            <a:avLst/>
          </a:prstGeom>
          <a:solidFill>
            <a:srgbClr val="fecd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1" name="Rectangle 34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indent="6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14-7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2" name="Text Box 35"/>
          <p:cNvSpPr/>
          <p:nvPr/>
        </p:nvSpPr>
        <p:spPr>
          <a:xfrm>
            <a:off x="2357280" y="262080"/>
            <a:ext cx="14558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63a84"/>
                </a:solidFill>
                <a:latin typeface="Arial"/>
              </a:rPr>
              <a:t>TECHNIQUE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3" name="Text Box 36"/>
          <p:cNvSpPr/>
          <p:nvPr/>
        </p:nvSpPr>
        <p:spPr>
          <a:xfrm>
            <a:off x="2351160" y="5157720"/>
            <a:ext cx="11509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63a84"/>
                </a:solidFill>
                <a:latin typeface="Arial"/>
              </a:rPr>
              <a:t>RESULTS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4" name="Text Box 37"/>
          <p:cNvSpPr/>
          <p:nvPr/>
        </p:nvSpPr>
        <p:spPr>
          <a:xfrm>
            <a:off x="2871720" y="1398600"/>
            <a:ext cx="195732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ominant phenotype,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unknown genotype: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NewRomanPS"/>
              </a:rPr>
              <a:t>PP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1500" spc="-1" strike="noStrike">
                <a:solidFill>
                  <a:srgbClr val="000000"/>
                </a:solidFill>
                <a:latin typeface="TimesNewRomanPS"/>
              </a:rPr>
              <a:t>Pp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5" name="Text Box 38"/>
          <p:cNvSpPr/>
          <p:nvPr/>
        </p:nvSpPr>
        <p:spPr>
          <a:xfrm>
            <a:off x="2300400" y="2319480"/>
            <a:ext cx="10681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edictions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6" name="Text Box 39"/>
          <p:cNvSpPr/>
          <p:nvPr/>
        </p:nvSpPr>
        <p:spPr>
          <a:xfrm>
            <a:off x="4929120" y="1398600"/>
            <a:ext cx="19702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ecessive phenotype,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known genotype: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NewRomanPS"/>
              </a:rPr>
              <a:t>                  </a:t>
            </a:r>
            <a:r>
              <a:rPr b="1" i="1" lang="en-US" sz="1500" spc="-1" strike="noStrike">
                <a:solidFill>
                  <a:srgbClr val="000000"/>
                </a:solidFill>
                <a:latin typeface="TimesNewRomanPS"/>
              </a:rPr>
              <a:t>pp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7" name="Text Box 40"/>
          <p:cNvSpPr/>
          <p:nvPr/>
        </p:nvSpPr>
        <p:spPr>
          <a:xfrm>
            <a:off x="4853160" y="992160"/>
            <a:ext cx="1537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8" name="Text Box 41"/>
          <p:cNvSpPr/>
          <p:nvPr/>
        </p:nvSpPr>
        <p:spPr>
          <a:xfrm>
            <a:off x="3652920" y="2744640"/>
            <a:ext cx="4651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i="1" lang="en-US" sz="1500" spc="-1" strike="noStrike">
                <a:solidFill>
                  <a:srgbClr val="000000"/>
                </a:solidFill>
                <a:latin typeface="TimesNewRomanPS Bold"/>
              </a:rPr>
              <a:t>PP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9" name="Text Box 42"/>
          <p:cNvSpPr/>
          <p:nvPr/>
        </p:nvSpPr>
        <p:spPr>
          <a:xfrm>
            <a:off x="5925960" y="2744640"/>
            <a:ext cx="4654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i="1" lang="en-US" sz="1500" spc="-1" strike="noStrike">
                <a:solidFill>
                  <a:srgbClr val="000000"/>
                </a:solidFill>
                <a:latin typeface="TimesNewRomanPS Bold"/>
              </a:rPr>
              <a:t>Pp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0" name="Text Box 43"/>
          <p:cNvSpPr/>
          <p:nvPr/>
        </p:nvSpPr>
        <p:spPr>
          <a:xfrm>
            <a:off x="4808520" y="2859120"/>
            <a:ext cx="1922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1" name="Text Box 44"/>
          <p:cNvSpPr/>
          <p:nvPr/>
        </p:nvSpPr>
        <p:spPr>
          <a:xfrm>
            <a:off x="3538440" y="3011400"/>
            <a:ext cx="5857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perm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2" name="Text Box 45"/>
          <p:cNvSpPr/>
          <p:nvPr/>
        </p:nvSpPr>
        <p:spPr>
          <a:xfrm>
            <a:off x="5811840" y="3011400"/>
            <a:ext cx="5857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perm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3" name="Text Box 46"/>
          <p:cNvSpPr/>
          <p:nvPr/>
        </p:nvSpPr>
        <p:spPr>
          <a:xfrm>
            <a:off x="3497400" y="3246480"/>
            <a:ext cx="1029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NewRomanPS Bold"/>
              </a:rPr>
              <a:t>p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4" name="Text Box 47"/>
          <p:cNvSpPr/>
          <p:nvPr/>
        </p:nvSpPr>
        <p:spPr>
          <a:xfrm>
            <a:off x="4043520" y="3246480"/>
            <a:ext cx="1029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NewRomanPS Bold"/>
              </a:rPr>
              <a:t>p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5" name="Text Box 48"/>
          <p:cNvSpPr/>
          <p:nvPr/>
        </p:nvSpPr>
        <p:spPr>
          <a:xfrm>
            <a:off x="5776920" y="3246480"/>
            <a:ext cx="103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NewRomanPS Bold"/>
              </a:rPr>
              <a:t>p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6" name="Text Box 49"/>
          <p:cNvSpPr/>
          <p:nvPr/>
        </p:nvSpPr>
        <p:spPr>
          <a:xfrm>
            <a:off x="6338880" y="3252960"/>
            <a:ext cx="103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NewRomanPS Bold"/>
              </a:rPr>
              <a:t>p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7" name="Text Box 50"/>
          <p:cNvSpPr/>
          <p:nvPr/>
        </p:nvSpPr>
        <p:spPr>
          <a:xfrm>
            <a:off x="2884320" y="3805200"/>
            <a:ext cx="103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NewRomanPS Bold"/>
              </a:rPr>
              <a:t>P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8" name="Text Box 51"/>
          <p:cNvSpPr/>
          <p:nvPr/>
        </p:nvSpPr>
        <p:spPr>
          <a:xfrm>
            <a:off x="2890800" y="4383000"/>
            <a:ext cx="103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NewRomanPS Bold"/>
              </a:rPr>
              <a:t>P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9" name="Text Box 52"/>
          <p:cNvSpPr/>
          <p:nvPr/>
        </p:nvSpPr>
        <p:spPr>
          <a:xfrm>
            <a:off x="5181480" y="3805200"/>
            <a:ext cx="103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NewRomanPS Bold"/>
              </a:rPr>
              <a:t>P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5181480" y="4408560"/>
            <a:ext cx="103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NewRomanPS Bold"/>
              </a:rPr>
              <a:t>p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1" name="Text Box 54"/>
          <p:cNvSpPr/>
          <p:nvPr/>
        </p:nvSpPr>
        <p:spPr>
          <a:xfrm>
            <a:off x="2414520" y="4078440"/>
            <a:ext cx="4651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ggs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2" name="Text Box 55"/>
          <p:cNvSpPr/>
          <p:nvPr/>
        </p:nvSpPr>
        <p:spPr>
          <a:xfrm>
            <a:off x="4700520" y="4078440"/>
            <a:ext cx="4651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ggs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3" name="Text Box 56"/>
          <p:cNvSpPr/>
          <p:nvPr/>
        </p:nvSpPr>
        <p:spPr>
          <a:xfrm>
            <a:off x="3386160" y="4611600"/>
            <a:ext cx="217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NewRomanPS Bold"/>
              </a:rPr>
              <a:t>Pp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4" name="Text Box 57"/>
          <p:cNvSpPr/>
          <p:nvPr/>
        </p:nvSpPr>
        <p:spPr>
          <a:xfrm>
            <a:off x="3430440" y="3989520"/>
            <a:ext cx="217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NewRomanPS Bold"/>
              </a:rPr>
              <a:t>Pp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5" name="Text Box 58"/>
          <p:cNvSpPr/>
          <p:nvPr/>
        </p:nvSpPr>
        <p:spPr>
          <a:xfrm>
            <a:off x="4065480" y="3976560"/>
            <a:ext cx="217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NewRomanPS Bold"/>
              </a:rPr>
              <a:t>Pp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6" name="Text Box 59"/>
          <p:cNvSpPr/>
          <p:nvPr/>
        </p:nvSpPr>
        <p:spPr>
          <a:xfrm>
            <a:off x="4065480" y="4618080"/>
            <a:ext cx="217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NewRomanPS Bold"/>
              </a:rPr>
              <a:t>Pp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7" name="Text Box 60"/>
          <p:cNvSpPr/>
          <p:nvPr/>
        </p:nvSpPr>
        <p:spPr>
          <a:xfrm>
            <a:off x="5729400" y="3989520"/>
            <a:ext cx="217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NewRomanPS Bold"/>
              </a:rPr>
              <a:t>Pp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8" name="Text Box 61"/>
          <p:cNvSpPr/>
          <p:nvPr/>
        </p:nvSpPr>
        <p:spPr>
          <a:xfrm>
            <a:off x="6357960" y="3983040"/>
            <a:ext cx="217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NewRomanPS Bold"/>
              </a:rPr>
              <a:t>Pp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9" name="Text Box 62"/>
          <p:cNvSpPr/>
          <p:nvPr/>
        </p:nvSpPr>
        <p:spPr>
          <a:xfrm>
            <a:off x="5697360" y="4611600"/>
            <a:ext cx="217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NewRomanPS Bold"/>
              </a:rPr>
              <a:t>pp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0" name="Text Box 63"/>
          <p:cNvSpPr/>
          <p:nvPr/>
        </p:nvSpPr>
        <p:spPr>
          <a:xfrm>
            <a:off x="6338880" y="4605480"/>
            <a:ext cx="217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NewRomanPS Bold"/>
              </a:rPr>
              <a:t>pp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1" name="Text Box 64"/>
          <p:cNvSpPr/>
          <p:nvPr/>
        </p:nvSpPr>
        <p:spPr>
          <a:xfrm>
            <a:off x="4465800" y="5742000"/>
            <a:ext cx="19188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2" name="Text Box 65"/>
          <p:cNvSpPr/>
          <p:nvPr/>
        </p:nvSpPr>
        <p:spPr>
          <a:xfrm>
            <a:off x="2452680" y="6066000"/>
            <a:ext cx="17794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ll offspring purple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3" name="Text Box 66"/>
          <p:cNvSpPr/>
          <p:nvPr/>
        </p:nvSpPr>
        <p:spPr>
          <a:xfrm>
            <a:off x="4782960" y="6072120"/>
            <a:ext cx="2135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baseline="2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offspring purple and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baseline="2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offspring white</a:t>
            </a:r>
            <a:endParaRPr b="1" lang="en-US" sz="15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 Law of Independent Assortmen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1164960"/>
            <a:ext cx="873936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ndel derived the law of segregation by following a single charac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F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fspring produced in this cross wer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nohybrid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individuals that are heterozygous for one charac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cross between such heterozygotes is called a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onohybrid cro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4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205920" y="1174680"/>
            <a:ext cx="853452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ndel identified his second law of inheritance by following two characters at the same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ossing two true-breeding parents differing in two characters produce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hybrid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the F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eneration, heterozygous for both charac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dihybrid cross, a cross between F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hybrids, can determine whether two characters are transmitted to offspring as a package or independent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4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1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2" name="Text Box 6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 Law of Independent Assortmen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113" descr="14_08-IndependentAssort-U"/>
          <p:cNvPicPr/>
          <p:nvPr/>
        </p:nvPicPr>
        <p:blipFill>
          <a:blip r:embed="rId1"/>
          <a:stretch/>
        </p:blipFill>
        <p:spPr>
          <a:xfrm>
            <a:off x="1681200" y="192240"/>
            <a:ext cx="5780160" cy="658476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114"/>
          <p:cNvSpPr/>
          <p:nvPr/>
        </p:nvSpPr>
        <p:spPr>
          <a:xfrm>
            <a:off x="1714680" y="5886360"/>
            <a:ext cx="1987200" cy="330120"/>
          </a:xfrm>
          <a:prstGeom prst="rect">
            <a:avLst/>
          </a:prstGeom>
          <a:solidFill>
            <a:srgbClr val="fecd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6" name="Rectangle 115"/>
          <p:cNvSpPr/>
          <p:nvPr/>
        </p:nvSpPr>
        <p:spPr>
          <a:xfrm>
            <a:off x="1720800" y="203040"/>
            <a:ext cx="1974960" cy="343080"/>
          </a:xfrm>
          <a:prstGeom prst="rect">
            <a:avLst/>
          </a:prstGeom>
          <a:solidFill>
            <a:srgbClr val="fecd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7" name="Rectangle 116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indent="6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14-8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8" name="Text Box 117"/>
          <p:cNvSpPr/>
          <p:nvPr/>
        </p:nvSpPr>
        <p:spPr>
          <a:xfrm>
            <a:off x="1832040" y="257040"/>
            <a:ext cx="14810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63a84"/>
                </a:solidFill>
                <a:latin typeface="Arial"/>
              </a:rPr>
              <a:t>EXPERIMENT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9" name="Text Box 118"/>
          <p:cNvSpPr/>
          <p:nvPr/>
        </p:nvSpPr>
        <p:spPr>
          <a:xfrm>
            <a:off x="1832040" y="5940360"/>
            <a:ext cx="1131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63a84"/>
                </a:solidFill>
                <a:latin typeface="Arial"/>
              </a:rPr>
              <a:t>RESULTS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0" name="Text Box 119"/>
          <p:cNvSpPr/>
          <p:nvPr/>
        </p:nvSpPr>
        <p:spPr>
          <a:xfrm>
            <a:off x="1711440" y="714240"/>
            <a:ext cx="9792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 Generation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1" name="Text Box 120"/>
          <p:cNvSpPr/>
          <p:nvPr/>
        </p:nvSpPr>
        <p:spPr>
          <a:xfrm>
            <a:off x="1730520" y="1711440"/>
            <a:ext cx="10173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Generation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2" name="Text Box 121"/>
          <p:cNvSpPr/>
          <p:nvPr/>
        </p:nvSpPr>
        <p:spPr>
          <a:xfrm>
            <a:off x="1711440" y="2390760"/>
            <a:ext cx="8586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dictions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3" name="Text Box 122"/>
          <p:cNvSpPr/>
          <p:nvPr/>
        </p:nvSpPr>
        <p:spPr>
          <a:xfrm>
            <a:off x="3038400" y="1177920"/>
            <a:ext cx="592200" cy="1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4" name="Text Box 123"/>
          <p:cNvSpPr/>
          <p:nvPr/>
        </p:nvSpPr>
        <p:spPr>
          <a:xfrm>
            <a:off x="2943360" y="2130480"/>
            <a:ext cx="960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ypothesis of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pendent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sortment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5" name="Text Box 124"/>
          <p:cNvSpPr/>
          <p:nvPr/>
        </p:nvSpPr>
        <p:spPr>
          <a:xfrm>
            <a:off x="3247920" y="676440"/>
            <a:ext cx="37620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YR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6" name="Text Box 125"/>
          <p:cNvSpPr/>
          <p:nvPr/>
        </p:nvSpPr>
        <p:spPr>
          <a:xfrm>
            <a:off x="4626000" y="67644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yr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7" name="Text Box 126"/>
          <p:cNvSpPr/>
          <p:nvPr/>
        </p:nvSpPr>
        <p:spPr>
          <a:xfrm>
            <a:off x="3710160" y="1200240"/>
            <a:ext cx="204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8" name="Text Box 127"/>
          <p:cNvSpPr/>
          <p:nvPr/>
        </p:nvSpPr>
        <p:spPr>
          <a:xfrm>
            <a:off x="4429080" y="1181160"/>
            <a:ext cx="1224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9" name="Text Box 128"/>
          <p:cNvSpPr/>
          <p:nvPr/>
        </p:nvSpPr>
        <p:spPr>
          <a:xfrm>
            <a:off x="4359240" y="1838160"/>
            <a:ext cx="3128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yR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0" name="Text Box 129"/>
          <p:cNvSpPr/>
          <p:nvPr/>
        </p:nvSpPr>
        <p:spPr>
          <a:xfrm>
            <a:off x="4118040" y="1203480"/>
            <a:ext cx="96840" cy="1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1" name="Text Box 130"/>
          <p:cNvSpPr/>
          <p:nvPr/>
        </p:nvSpPr>
        <p:spPr>
          <a:xfrm>
            <a:off x="4505400" y="2130480"/>
            <a:ext cx="1017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ypothesis of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ependent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sortment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2" name="Text Box 131"/>
          <p:cNvSpPr/>
          <p:nvPr/>
        </p:nvSpPr>
        <p:spPr>
          <a:xfrm>
            <a:off x="4073400" y="2892600"/>
            <a:ext cx="173160" cy="1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3" name="Text Box 132"/>
          <p:cNvSpPr/>
          <p:nvPr/>
        </p:nvSpPr>
        <p:spPr>
          <a:xfrm>
            <a:off x="1711440" y="2968560"/>
            <a:ext cx="10620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dicted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fspring of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generation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4" name="Text Box 133"/>
          <p:cNvSpPr/>
          <p:nvPr/>
        </p:nvSpPr>
        <p:spPr>
          <a:xfrm>
            <a:off x="3292560" y="3171960"/>
            <a:ext cx="4525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perm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5" name="Text Box 134"/>
          <p:cNvSpPr/>
          <p:nvPr/>
        </p:nvSpPr>
        <p:spPr>
          <a:xfrm>
            <a:off x="5864400" y="2835360"/>
            <a:ext cx="45216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erm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6" name="Text Box 135"/>
          <p:cNvSpPr/>
          <p:nvPr/>
        </p:nvSpPr>
        <p:spPr>
          <a:xfrm>
            <a:off x="5241960" y="3076560"/>
            <a:ext cx="2048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7" name="Text Box 136"/>
          <p:cNvSpPr/>
          <p:nvPr/>
        </p:nvSpPr>
        <p:spPr>
          <a:xfrm>
            <a:off x="3184560" y="3381480"/>
            <a:ext cx="2048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8" name="Text Box 137"/>
          <p:cNvSpPr/>
          <p:nvPr/>
        </p:nvSpPr>
        <p:spPr>
          <a:xfrm>
            <a:off x="6799320" y="3070080"/>
            <a:ext cx="1220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9" name="Text Box 138"/>
          <p:cNvSpPr/>
          <p:nvPr/>
        </p:nvSpPr>
        <p:spPr>
          <a:xfrm>
            <a:off x="3743280" y="3381480"/>
            <a:ext cx="1224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0" name="Text Box 139"/>
          <p:cNvSpPr/>
          <p:nvPr/>
        </p:nvSpPr>
        <p:spPr>
          <a:xfrm>
            <a:off x="5788080" y="3083040"/>
            <a:ext cx="122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1" name="Text Box 140"/>
          <p:cNvSpPr/>
          <p:nvPr/>
        </p:nvSpPr>
        <p:spPr>
          <a:xfrm>
            <a:off x="4734000" y="354636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2" name="Text Box 141"/>
          <p:cNvSpPr/>
          <p:nvPr/>
        </p:nvSpPr>
        <p:spPr>
          <a:xfrm>
            <a:off x="6283440" y="3076560"/>
            <a:ext cx="2048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3" name="Text Box 142"/>
          <p:cNvSpPr/>
          <p:nvPr/>
        </p:nvSpPr>
        <p:spPr>
          <a:xfrm>
            <a:off x="4746600" y="4048200"/>
            <a:ext cx="1224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4" name="Text Box 143"/>
          <p:cNvSpPr/>
          <p:nvPr/>
        </p:nvSpPr>
        <p:spPr>
          <a:xfrm>
            <a:off x="4753080" y="4556160"/>
            <a:ext cx="2048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5" name="Text Box 144"/>
          <p:cNvSpPr/>
          <p:nvPr/>
        </p:nvSpPr>
        <p:spPr>
          <a:xfrm>
            <a:off x="2724120" y="4348080"/>
            <a:ext cx="1224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6" name="Text Box 145"/>
          <p:cNvSpPr/>
          <p:nvPr/>
        </p:nvSpPr>
        <p:spPr>
          <a:xfrm>
            <a:off x="2689200" y="3851280"/>
            <a:ext cx="2048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7" name="Text Box 146"/>
          <p:cNvSpPr/>
          <p:nvPr/>
        </p:nvSpPr>
        <p:spPr>
          <a:xfrm>
            <a:off x="5108400" y="3686040"/>
            <a:ext cx="376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YR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8" name="Text Box 147"/>
          <p:cNvSpPr/>
          <p:nvPr/>
        </p:nvSpPr>
        <p:spPr>
          <a:xfrm>
            <a:off x="3044880" y="3997440"/>
            <a:ext cx="3762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YR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9" name="Text Box 148"/>
          <p:cNvSpPr/>
          <p:nvPr/>
        </p:nvSpPr>
        <p:spPr>
          <a:xfrm>
            <a:off x="3584520" y="3990960"/>
            <a:ext cx="331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yR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0" name="Text Box 149"/>
          <p:cNvSpPr/>
          <p:nvPr/>
        </p:nvSpPr>
        <p:spPr>
          <a:xfrm>
            <a:off x="3083040" y="4492800"/>
            <a:ext cx="33156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yR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1" name="Text Box 150"/>
          <p:cNvSpPr/>
          <p:nvPr/>
        </p:nvSpPr>
        <p:spPr>
          <a:xfrm>
            <a:off x="6638760" y="3692520"/>
            <a:ext cx="331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yR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2" name="Text Box 151"/>
          <p:cNvSpPr/>
          <p:nvPr/>
        </p:nvSpPr>
        <p:spPr>
          <a:xfrm>
            <a:off x="6137280" y="4194000"/>
            <a:ext cx="331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yR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3" name="Text Box 152"/>
          <p:cNvSpPr/>
          <p:nvPr/>
        </p:nvSpPr>
        <p:spPr>
          <a:xfrm>
            <a:off x="5641920" y="4689360"/>
            <a:ext cx="331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yR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4" name="Text Box 153"/>
          <p:cNvSpPr/>
          <p:nvPr/>
        </p:nvSpPr>
        <p:spPr>
          <a:xfrm>
            <a:off x="5140440" y="5197320"/>
            <a:ext cx="3315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yR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5" name="Text Box 154"/>
          <p:cNvSpPr/>
          <p:nvPr/>
        </p:nvSpPr>
        <p:spPr>
          <a:xfrm>
            <a:off x="5622840" y="3679920"/>
            <a:ext cx="3762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YR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6" name="Text Box 155"/>
          <p:cNvSpPr/>
          <p:nvPr/>
        </p:nvSpPr>
        <p:spPr>
          <a:xfrm>
            <a:off x="5127480" y="4181400"/>
            <a:ext cx="376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YR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7" name="Text Box 156"/>
          <p:cNvSpPr/>
          <p:nvPr/>
        </p:nvSpPr>
        <p:spPr>
          <a:xfrm>
            <a:off x="6118200" y="3686040"/>
            <a:ext cx="37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yR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8" name="Text Box 157"/>
          <p:cNvSpPr/>
          <p:nvPr/>
        </p:nvSpPr>
        <p:spPr>
          <a:xfrm>
            <a:off x="5114880" y="4689360"/>
            <a:ext cx="37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yR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9" name="Text Box 158"/>
          <p:cNvSpPr/>
          <p:nvPr/>
        </p:nvSpPr>
        <p:spPr>
          <a:xfrm>
            <a:off x="5648400" y="4181400"/>
            <a:ext cx="318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Yr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0" name="Text Box 159"/>
          <p:cNvSpPr/>
          <p:nvPr/>
        </p:nvSpPr>
        <p:spPr>
          <a:xfrm>
            <a:off x="6657840" y="4187880"/>
            <a:ext cx="3762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yr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1" name="Text Box 160"/>
          <p:cNvSpPr/>
          <p:nvPr/>
        </p:nvSpPr>
        <p:spPr>
          <a:xfrm>
            <a:off x="5661000" y="5191200"/>
            <a:ext cx="3762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yr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2" name="Text Box 161"/>
          <p:cNvSpPr/>
          <p:nvPr/>
        </p:nvSpPr>
        <p:spPr>
          <a:xfrm>
            <a:off x="6130800" y="4689360"/>
            <a:ext cx="37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yR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3" name="Text Box 162"/>
          <p:cNvSpPr/>
          <p:nvPr/>
        </p:nvSpPr>
        <p:spPr>
          <a:xfrm>
            <a:off x="6657840" y="4695840"/>
            <a:ext cx="3762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yR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4" name="Text Box 163"/>
          <p:cNvSpPr/>
          <p:nvPr/>
        </p:nvSpPr>
        <p:spPr>
          <a:xfrm>
            <a:off x="6156360" y="5191200"/>
            <a:ext cx="3762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yR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5" name="Text Box 164"/>
          <p:cNvSpPr/>
          <p:nvPr/>
        </p:nvSpPr>
        <p:spPr>
          <a:xfrm>
            <a:off x="6683400" y="5197320"/>
            <a:ext cx="27468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yr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6" name="Text Box 165"/>
          <p:cNvSpPr/>
          <p:nvPr/>
        </p:nvSpPr>
        <p:spPr>
          <a:xfrm>
            <a:off x="3622680" y="4498920"/>
            <a:ext cx="27468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yr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7" name="Text Box 166"/>
          <p:cNvSpPr/>
          <p:nvPr/>
        </p:nvSpPr>
        <p:spPr>
          <a:xfrm>
            <a:off x="2695680" y="5153040"/>
            <a:ext cx="1493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enotypic ratio 3:1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8" name="Text Box 167"/>
          <p:cNvSpPr/>
          <p:nvPr/>
        </p:nvSpPr>
        <p:spPr>
          <a:xfrm>
            <a:off x="2098800" y="4118040"/>
            <a:ext cx="3380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ggs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9" name="Text Box 168"/>
          <p:cNvSpPr/>
          <p:nvPr/>
        </p:nvSpPr>
        <p:spPr>
          <a:xfrm>
            <a:off x="4175280" y="4270320"/>
            <a:ext cx="363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ggs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0" name="Text Box 169"/>
          <p:cNvSpPr/>
          <p:nvPr/>
        </p:nvSpPr>
        <p:spPr>
          <a:xfrm>
            <a:off x="5172120" y="5775480"/>
            <a:ext cx="17352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enotypic ratio 9:3:3:1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1" name="Text Box 170"/>
          <p:cNvSpPr/>
          <p:nvPr/>
        </p:nvSpPr>
        <p:spPr>
          <a:xfrm>
            <a:off x="2981160" y="3387600"/>
            <a:ext cx="1479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000" spc="-1" strike="noStrike" baseline="-15000">
                <a:solidFill>
                  <a:srgbClr val="000000"/>
                </a:solidFill>
                <a:latin typeface="Arial"/>
              </a:rPr>
              <a:t>2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2" name="Text Box 171"/>
          <p:cNvSpPr/>
          <p:nvPr/>
        </p:nvSpPr>
        <p:spPr>
          <a:xfrm>
            <a:off x="3502080" y="3387600"/>
            <a:ext cx="147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000" spc="-1" strike="noStrike" baseline="-15000">
                <a:solidFill>
                  <a:srgbClr val="000000"/>
                </a:solidFill>
                <a:latin typeface="Arial"/>
              </a:rPr>
              <a:t>2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3" name="Text Box 172"/>
          <p:cNvSpPr/>
          <p:nvPr/>
        </p:nvSpPr>
        <p:spPr>
          <a:xfrm>
            <a:off x="2479680" y="3851280"/>
            <a:ext cx="147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000" spc="-1" strike="noStrike" baseline="-15000">
                <a:solidFill>
                  <a:srgbClr val="000000"/>
                </a:solidFill>
                <a:latin typeface="Arial"/>
              </a:rPr>
              <a:t>2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4" name="Text Box 173"/>
          <p:cNvSpPr/>
          <p:nvPr/>
        </p:nvSpPr>
        <p:spPr>
          <a:xfrm>
            <a:off x="2479680" y="4346640"/>
            <a:ext cx="147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000" spc="-1" strike="noStrike" baseline="-15000">
                <a:solidFill>
                  <a:srgbClr val="000000"/>
                </a:solidFill>
                <a:latin typeface="Arial"/>
              </a:rPr>
              <a:t>2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5" name="Text Box 174"/>
          <p:cNvSpPr/>
          <p:nvPr/>
        </p:nvSpPr>
        <p:spPr>
          <a:xfrm>
            <a:off x="4518000" y="3535200"/>
            <a:ext cx="16668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000" spc="-1" strike="noStrike" baseline="-15000">
                <a:solidFill>
                  <a:srgbClr val="000000"/>
                </a:solidFill>
                <a:latin typeface="Arial"/>
              </a:rPr>
              <a:t>4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6" name="Text Box 175"/>
          <p:cNvSpPr/>
          <p:nvPr/>
        </p:nvSpPr>
        <p:spPr>
          <a:xfrm>
            <a:off x="4761000" y="5045040"/>
            <a:ext cx="1220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NewRomanPS Bold"/>
              </a:rPr>
              <a:t>yr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7" name="Text Box 176"/>
          <p:cNvSpPr/>
          <p:nvPr/>
        </p:nvSpPr>
        <p:spPr>
          <a:xfrm>
            <a:off x="5025960" y="3071880"/>
            <a:ext cx="16668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000" spc="-1" strike="noStrike" baseline="-15000">
                <a:solidFill>
                  <a:srgbClr val="000000"/>
                </a:solidFill>
                <a:latin typeface="Arial"/>
              </a:rPr>
              <a:t>4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8" name="Text Box 177"/>
          <p:cNvSpPr/>
          <p:nvPr/>
        </p:nvSpPr>
        <p:spPr>
          <a:xfrm>
            <a:off x="5553000" y="3065400"/>
            <a:ext cx="16668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000" spc="-1" strike="noStrike" baseline="-15000">
                <a:solidFill>
                  <a:srgbClr val="000000"/>
                </a:solidFill>
                <a:latin typeface="Arial"/>
              </a:rPr>
              <a:t>4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9" name="Text Box 178"/>
          <p:cNvSpPr/>
          <p:nvPr/>
        </p:nvSpPr>
        <p:spPr>
          <a:xfrm>
            <a:off x="6054840" y="3059280"/>
            <a:ext cx="16668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000" spc="-1" strike="noStrike" baseline="-15000">
                <a:solidFill>
                  <a:srgbClr val="000000"/>
                </a:solidFill>
                <a:latin typeface="Arial"/>
              </a:rPr>
              <a:t>4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0" name="Text Box 179"/>
          <p:cNvSpPr/>
          <p:nvPr/>
        </p:nvSpPr>
        <p:spPr>
          <a:xfrm>
            <a:off x="6556320" y="3065400"/>
            <a:ext cx="16668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000" spc="-1" strike="noStrike" baseline="-15000">
                <a:solidFill>
                  <a:srgbClr val="000000"/>
                </a:solidFill>
                <a:latin typeface="Arial"/>
              </a:rPr>
              <a:t>4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1" name="Text Box 180"/>
          <p:cNvSpPr/>
          <p:nvPr/>
        </p:nvSpPr>
        <p:spPr>
          <a:xfrm>
            <a:off x="4518000" y="4030560"/>
            <a:ext cx="16668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000" spc="-1" strike="noStrike" baseline="-15000">
                <a:solidFill>
                  <a:srgbClr val="000000"/>
                </a:solidFill>
                <a:latin typeface="Arial"/>
              </a:rPr>
              <a:t>4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2" name="Text Box 181"/>
          <p:cNvSpPr/>
          <p:nvPr/>
        </p:nvSpPr>
        <p:spPr>
          <a:xfrm>
            <a:off x="4518000" y="4532400"/>
            <a:ext cx="16668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000" spc="-1" strike="noStrike" baseline="-15000">
                <a:solidFill>
                  <a:srgbClr val="000000"/>
                </a:solidFill>
                <a:latin typeface="Arial"/>
              </a:rPr>
              <a:t>4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3" name="Text Box 182"/>
          <p:cNvSpPr/>
          <p:nvPr/>
        </p:nvSpPr>
        <p:spPr>
          <a:xfrm>
            <a:off x="4518000" y="5033880"/>
            <a:ext cx="16668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000" spc="-1" strike="noStrike" baseline="-15000">
                <a:solidFill>
                  <a:srgbClr val="000000"/>
                </a:solidFill>
                <a:latin typeface="Arial"/>
              </a:rPr>
              <a:t>4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4" name="Text Box 183"/>
          <p:cNvSpPr/>
          <p:nvPr/>
        </p:nvSpPr>
        <p:spPr>
          <a:xfrm>
            <a:off x="3463920" y="4836960"/>
            <a:ext cx="16668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000" spc="-1" strike="noStrike" baseline="-15000">
                <a:solidFill>
                  <a:srgbClr val="000000"/>
                </a:solidFill>
                <a:latin typeface="Arial"/>
              </a:rPr>
              <a:t>4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5" name="Text Box 184"/>
          <p:cNvSpPr/>
          <p:nvPr/>
        </p:nvSpPr>
        <p:spPr>
          <a:xfrm>
            <a:off x="2936880" y="4836960"/>
            <a:ext cx="16668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000" spc="-1" strike="noStrike" baseline="-15000">
                <a:solidFill>
                  <a:srgbClr val="000000"/>
                </a:solidFill>
                <a:latin typeface="Arial"/>
              </a:rPr>
              <a:t>4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6" name="Text Box 185"/>
          <p:cNvSpPr/>
          <p:nvPr/>
        </p:nvSpPr>
        <p:spPr>
          <a:xfrm>
            <a:off x="4657680" y="5505480"/>
            <a:ext cx="20484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000" spc="-1" strike="noStrike" baseline="-15000">
                <a:solidFill>
                  <a:srgbClr val="000000"/>
                </a:solidFill>
                <a:latin typeface="Arial"/>
              </a:rPr>
              <a:t>16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7" name="Text Box 186"/>
          <p:cNvSpPr/>
          <p:nvPr/>
        </p:nvSpPr>
        <p:spPr>
          <a:xfrm>
            <a:off x="5299200" y="5499000"/>
            <a:ext cx="2048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000" spc="-1" strike="noStrike" baseline="-15000">
                <a:solidFill>
                  <a:srgbClr val="000000"/>
                </a:solidFill>
                <a:latin typeface="Arial"/>
              </a:rPr>
              <a:t>16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8" name="Text Box 187"/>
          <p:cNvSpPr/>
          <p:nvPr/>
        </p:nvSpPr>
        <p:spPr>
          <a:xfrm>
            <a:off x="5959440" y="5505480"/>
            <a:ext cx="20484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000" spc="-1" strike="noStrike" baseline="-15000">
                <a:solidFill>
                  <a:srgbClr val="000000"/>
                </a:solidFill>
                <a:latin typeface="Arial"/>
              </a:rPr>
              <a:t>16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9" name="Text Box 188"/>
          <p:cNvSpPr/>
          <p:nvPr/>
        </p:nvSpPr>
        <p:spPr>
          <a:xfrm>
            <a:off x="6541920" y="5499000"/>
            <a:ext cx="2048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000" spc="-1" strike="noStrike" baseline="-15000">
                <a:solidFill>
                  <a:srgbClr val="000000"/>
                </a:solidFill>
                <a:latin typeface="Arial"/>
              </a:rPr>
              <a:t>16</a:t>
            </a:r>
            <a:endParaRPr b="1" lang="en-US" sz="1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0" name="Text Box 189"/>
          <p:cNvSpPr/>
          <p:nvPr/>
        </p:nvSpPr>
        <p:spPr>
          <a:xfrm>
            <a:off x="4600440" y="6378480"/>
            <a:ext cx="2795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enotypic ratio approximately 9:3:3:1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1" name="Text Box 190"/>
          <p:cNvSpPr/>
          <p:nvPr/>
        </p:nvSpPr>
        <p:spPr>
          <a:xfrm>
            <a:off x="1730520" y="6391440"/>
            <a:ext cx="25560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15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2" name="Text Box 191"/>
          <p:cNvSpPr/>
          <p:nvPr/>
        </p:nvSpPr>
        <p:spPr>
          <a:xfrm>
            <a:off x="2460600" y="6391440"/>
            <a:ext cx="25560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3" name="Text Box 192"/>
          <p:cNvSpPr/>
          <p:nvPr/>
        </p:nvSpPr>
        <p:spPr>
          <a:xfrm>
            <a:off x="3171960" y="6391440"/>
            <a:ext cx="25560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4" name="Text Box 193"/>
          <p:cNvSpPr/>
          <p:nvPr/>
        </p:nvSpPr>
        <p:spPr>
          <a:xfrm>
            <a:off x="3882960" y="6391440"/>
            <a:ext cx="1731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196920" y="1198440"/>
            <a:ext cx="853416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5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ing a dihybrid cross, Mendel developed 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aw of independent assort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5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law of independent assortment states that each pair of alleles segregates independently of each other pair of alleles during gamete 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5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ictly speaking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, this law applies only to genes on different, nonhomologous chromoso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5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s located near each other on the same chromosome tend to be inherited togeth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4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7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8" name="Text Box 6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The Law of Independent Assortmen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You should now be able to: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17080" y="1174320"/>
            <a:ext cx="8534520" cy="45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12"/>
              </a:spcBef>
              <a:spcAft>
                <a:spcPts val="4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fine the following terms: true breeding, hybridization, monohybrid cross, P generation, F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generation, F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12"/>
              </a:spcBef>
              <a:spcAft>
                <a:spcPts val="4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istinguish between the following pairs of terms: dominant and recessive; heterozygous and homozygous; genotype and phenoty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12"/>
              </a:spcBef>
              <a:spcAft>
                <a:spcPts val="4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se a Punnett square to predict the results of a cross and to state the phenotypic and genotypic ratios of the F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gene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012"/>
              </a:spcBef>
              <a:spcAft>
                <a:spcPts val="451"/>
              </a:spcAft>
              <a:buClr>
                <a:srgbClr val="3333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how phenotypic expression in the heterozygote differs with complete dominance, incomplete dominance, and codom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012"/>
              </a:spcBef>
              <a:spcAft>
                <a:spcPts val="451"/>
              </a:spcAft>
              <a:buClr>
                <a:srgbClr val="3333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nd give examples of pleiotropy and epist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012"/>
              </a:spcBef>
              <a:spcAft>
                <a:spcPts val="451"/>
              </a:spcAft>
              <a:buClr>
                <a:srgbClr val="3333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why lethal dominant genes are much rarer than lethal recessive ge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012"/>
              </a:spcBef>
              <a:spcAft>
                <a:spcPts val="451"/>
              </a:spcAft>
              <a:buClr>
                <a:srgbClr val="3333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how carrier recognition, fetal testing, and newborn screening can be used in genetic screening and couns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4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3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4" name="Text Box 6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7" descr="14_01Mendel-U"/>
          <p:cNvPicPr/>
          <p:nvPr/>
        </p:nvPicPr>
        <p:blipFill>
          <a:blip r:embed="rId1"/>
          <a:stretch/>
        </p:blipFill>
        <p:spPr>
          <a:xfrm>
            <a:off x="297000" y="271440"/>
            <a:ext cx="8548560" cy="638964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8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indent="6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14-1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2514600" y="5335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Vide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076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Mendel’s Experimental, Quantitative Approach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41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Advantages of pea plants for genetic stud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85000"/>
              </a:lnSpc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any varieti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distinct heritable features, 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act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uch as flower color); character variants (such as purple or white flowers) are call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85000"/>
              </a:lnSpc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ing of plants can b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rolled, and many offspring produc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85000"/>
              </a:lnSpc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ea plant ha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GONAD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rm-producing organs (stamens) and egg-producing organs (carpe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85000"/>
              </a:lnSpc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ross-pollin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ertilization between different plants) can be achieved by dusting one plant with pollen from an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85000"/>
              </a:lnSpc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del chose to track only those characters that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aried in an either-or ma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85000"/>
              </a:lnSpc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also used varieties that we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ue-breed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lants that produce offspring of the same variety when they self-pollin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5000"/>
              </a:lnSpc>
              <a:spcBef>
                <a:spcPts val="1125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yright © 2008 Pearson Education Inc., publishing as Pearson Benjamin Cummings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2" descr="14_02-CrossingPeaPlants-U"/>
          <p:cNvPicPr/>
          <p:nvPr/>
        </p:nvPicPr>
        <p:blipFill>
          <a:blip r:embed="rId1"/>
          <a:stretch/>
        </p:blipFill>
        <p:spPr>
          <a:xfrm>
            <a:off x="2614680" y="168120"/>
            <a:ext cx="3914640" cy="6597720"/>
          </a:xfrm>
          <a:prstGeom prst="rect">
            <a:avLst/>
          </a:prstGeom>
          <a:ln w="0">
            <a:noFill/>
          </a:ln>
        </p:spPr>
      </p:pic>
      <p:sp>
        <p:nvSpPr>
          <p:cNvPr id="143" name="Oval 23"/>
          <p:cNvSpPr/>
          <p:nvPr/>
        </p:nvSpPr>
        <p:spPr>
          <a:xfrm>
            <a:off x="5646600" y="5151600"/>
            <a:ext cx="158760" cy="152280"/>
          </a:xfrm>
          <a:prstGeom prst="ellipse">
            <a:avLst/>
          </a:prstGeom>
          <a:solidFill>
            <a:srgbClr val="009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Oval 24"/>
          <p:cNvSpPr/>
          <p:nvPr/>
        </p:nvSpPr>
        <p:spPr>
          <a:xfrm>
            <a:off x="5514840" y="4017960"/>
            <a:ext cx="158760" cy="158760"/>
          </a:xfrm>
          <a:prstGeom prst="ellipse">
            <a:avLst/>
          </a:prstGeom>
          <a:solidFill>
            <a:srgbClr val="009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5" name="Oval 25"/>
          <p:cNvSpPr/>
          <p:nvPr/>
        </p:nvSpPr>
        <p:spPr>
          <a:xfrm>
            <a:off x="4740120" y="3503520"/>
            <a:ext cx="158760" cy="158760"/>
          </a:xfrm>
          <a:prstGeom prst="ellipse">
            <a:avLst/>
          </a:prstGeom>
          <a:solidFill>
            <a:srgbClr val="009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6" name="Oval 26"/>
          <p:cNvSpPr/>
          <p:nvPr/>
        </p:nvSpPr>
        <p:spPr>
          <a:xfrm>
            <a:off x="5254560" y="1928880"/>
            <a:ext cx="158760" cy="158760"/>
          </a:xfrm>
          <a:prstGeom prst="ellipse">
            <a:avLst/>
          </a:prstGeom>
          <a:solidFill>
            <a:srgbClr val="009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7" name="Oval 27"/>
          <p:cNvSpPr/>
          <p:nvPr/>
        </p:nvSpPr>
        <p:spPr>
          <a:xfrm>
            <a:off x="3968640" y="770040"/>
            <a:ext cx="158760" cy="158760"/>
          </a:xfrm>
          <a:prstGeom prst="ellipse">
            <a:avLst/>
          </a:prstGeom>
          <a:solidFill>
            <a:srgbClr val="009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" name="Rectangle 28"/>
          <p:cNvSpPr/>
          <p:nvPr/>
        </p:nvSpPr>
        <p:spPr>
          <a:xfrm>
            <a:off x="2646360" y="4665600"/>
            <a:ext cx="1778040" cy="300240"/>
          </a:xfrm>
          <a:prstGeom prst="rect">
            <a:avLst/>
          </a:prstGeom>
          <a:solidFill>
            <a:srgbClr val="fecd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9" name="Rectangle 29"/>
          <p:cNvSpPr/>
          <p:nvPr/>
        </p:nvSpPr>
        <p:spPr>
          <a:xfrm>
            <a:off x="2649600" y="210960"/>
            <a:ext cx="1778040" cy="304920"/>
          </a:xfrm>
          <a:prstGeom prst="rect">
            <a:avLst/>
          </a:prstGeom>
          <a:solidFill>
            <a:srgbClr val="fecd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0" name="Rectangle 30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indent="6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14-2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Text Box 31"/>
          <p:cNvSpPr/>
          <p:nvPr/>
        </p:nvSpPr>
        <p:spPr>
          <a:xfrm>
            <a:off x="2747880" y="252360"/>
            <a:ext cx="1379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63a84"/>
                </a:solidFill>
                <a:latin typeface="Arial"/>
              </a:rPr>
              <a:t>TECHNIQUE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2" name="Text Box 32"/>
          <p:cNvSpPr/>
          <p:nvPr/>
        </p:nvSpPr>
        <p:spPr>
          <a:xfrm>
            <a:off x="2749680" y="4687920"/>
            <a:ext cx="106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63a84"/>
                </a:solidFill>
                <a:latin typeface="Arial"/>
              </a:rPr>
              <a:t>RESULTS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3" name="Text Box 33"/>
          <p:cNvSpPr/>
          <p:nvPr/>
        </p:nvSpPr>
        <p:spPr>
          <a:xfrm>
            <a:off x="2735280" y="2475000"/>
            <a:ext cx="12016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ental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)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4" name="Text Box 34"/>
          <p:cNvSpPr/>
          <p:nvPr/>
        </p:nvSpPr>
        <p:spPr>
          <a:xfrm>
            <a:off x="4805280" y="3059280"/>
            <a:ext cx="979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mens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5" name="Text Box 35"/>
          <p:cNvSpPr/>
          <p:nvPr/>
        </p:nvSpPr>
        <p:spPr>
          <a:xfrm>
            <a:off x="4583160" y="3287880"/>
            <a:ext cx="770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pel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" name="Line 36"/>
          <p:cNvSpPr/>
          <p:nvPr/>
        </p:nvSpPr>
        <p:spPr>
          <a:xfrm>
            <a:off x="4495680" y="2819520"/>
            <a:ext cx="152640" cy="447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7" name="Line 37"/>
          <p:cNvSpPr/>
          <p:nvPr/>
        </p:nvSpPr>
        <p:spPr>
          <a:xfrm flipH="1">
            <a:off x="5441760" y="2841480"/>
            <a:ext cx="98280" cy="231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8" name="Text Box 38"/>
          <p:cNvSpPr/>
          <p:nvPr/>
        </p:nvSpPr>
        <p:spPr>
          <a:xfrm>
            <a:off x="4005360" y="795240"/>
            <a:ext cx="74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Text Box 39"/>
          <p:cNvSpPr/>
          <p:nvPr/>
        </p:nvSpPr>
        <p:spPr>
          <a:xfrm>
            <a:off x="5294160" y="1951200"/>
            <a:ext cx="9684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0" name="Text Box 40"/>
          <p:cNvSpPr/>
          <p:nvPr/>
        </p:nvSpPr>
        <p:spPr>
          <a:xfrm>
            <a:off x="4776840" y="3529080"/>
            <a:ext cx="9684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1" name="Text Box 41"/>
          <p:cNvSpPr/>
          <p:nvPr/>
        </p:nvSpPr>
        <p:spPr>
          <a:xfrm>
            <a:off x="5545080" y="4037040"/>
            <a:ext cx="9684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2" name="Text Box 42"/>
          <p:cNvSpPr/>
          <p:nvPr/>
        </p:nvSpPr>
        <p:spPr>
          <a:xfrm>
            <a:off x="2671920" y="5027760"/>
            <a:ext cx="9792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ial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-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ion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spring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Text Box 43"/>
          <p:cNvSpPr/>
          <p:nvPr/>
        </p:nvSpPr>
        <p:spPr>
          <a:xfrm>
            <a:off x="5686560" y="5172120"/>
            <a:ext cx="9684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96560" y="1165320"/>
            <a:ext cx="89470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typical experiment, Mendel mated two contrasting, true-breeding varieties, a process call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ybrid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rue-breeding parents ar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ybrid offspring of the P generation are called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dividuals self-pollinate,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ener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pro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Mendel crossed contrasting, true-breeding white and purple flowered pea plants, all of the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ybrids were pur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Mendel crossed the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ybrids, many of the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lants had purple flowers, but some had wh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125"/>
              </a:spcBef>
              <a:spcAft>
                <a:spcPts val="499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del discovered a ratio of about three to one, purple to white flowers, in the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125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14076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Mendel’s Experimental, Quantitative Approach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indent="6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14-3-3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Picture 12" descr="14_03PurpleWhiteFlowers_3-U"/>
          <p:cNvPicPr/>
          <p:nvPr/>
        </p:nvPicPr>
        <p:blipFill>
          <a:blip r:embed="rId1"/>
          <a:stretch/>
        </p:blipFill>
        <p:spPr>
          <a:xfrm>
            <a:off x="1617840" y="130320"/>
            <a:ext cx="5908320" cy="65973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3"/>
          <p:cNvSpPr/>
          <p:nvPr/>
        </p:nvSpPr>
        <p:spPr>
          <a:xfrm>
            <a:off x="1727280" y="171360"/>
            <a:ext cx="1955880" cy="336600"/>
          </a:xfrm>
          <a:prstGeom prst="rect">
            <a:avLst/>
          </a:prstGeom>
          <a:solidFill>
            <a:srgbClr val="fecd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1833480" y="264960"/>
            <a:ext cx="151308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63a84"/>
                </a:solidFill>
                <a:latin typeface="Arial"/>
              </a:rPr>
              <a:t>EXPERIMENT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1706400" y="785880"/>
            <a:ext cx="1557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 Generation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rue-breeding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ents)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Text Box 16"/>
          <p:cNvSpPr/>
          <p:nvPr/>
        </p:nvSpPr>
        <p:spPr>
          <a:xfrm>
            <a:off x="4443480" y="1427040"/>
            <a:ext cx="8269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ple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owers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5611680" y="1427040"/>
            <a:ext cx="82728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owers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6" name="Text Box 18"/>
          <p:cNvSpPr/>
          <p:nvPr/>
        </p:nvSpPr>
        <p:spPr>
          <a:xfrm>
            <a:off x="5383080" y="792000"/>
            <a:ext cx="17316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7" name="Text Box 19"/>
          <p:cNvSpPr/>
          <p:nvPr/>
        </p:nvSpPr>
        <p:spPr>
          <a:xfrm>
            <a:off x="1630440" y="2957400"/>
            <a:ext cx="15573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ration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hybrids)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Text Box 20"/>
          <p:cNvSpPr/>
          <p:nvPr/>
        </p:nvSpPr>
        <p:spPr>
          <a:xfrm>
            <a:off x="4659480" y="3433680"/>
            <a:ext cx="1690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plants had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ple flowers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1604880" y="4836960"/>
            <a:ext cx="1608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ration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3065400" y="6062760"/>
            <a:ext cx="21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05 purple-flowered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Text Box 23"/>
          <p:cNvSpPr/>
          <p:nvPr/>
        </p:nvSpPr>
        <p:spPr>
          <a:xfrm>
            <a:off x="5383080" y="6056280"/>
            <a:ext cx="219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24 white-flowered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96560" y="1176480"/>
            <a:ext cx="8947080" cy="51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ndel reasoned that only the purple flower factor was affecting flower color in the F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hybr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ndel called the purple flower color a dominant trait and the white flower color a recessive tra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ndel observed the same pattern of inheritance in six other pea plant characters, each represented by two tra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Mendel called a “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heritable facto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” is what we now call a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ge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5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4" name="Line 6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1" lang="en-US" sz="11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4076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Mendel’s Experimental, Quantitative Approach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7" descr="14_T01PeaPlantCharacters-U"/>
          <p:cNvPicPr/>
          <p:nvPr/>
        </p:nvPicPr>
        <p:blipFill>
          <a:blip r:embed="rId1"/>
          <a:stretch/>
        </p:blipFill>
        <p:spPr>
          <a:xfrm>
            <a:off x="2144880" y="174600"/>
            <a:ext cx="4852800" cy="658512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8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indent="6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14-1</a:t>
            </a:r>
            <a:endParaRPr b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gibsonbrownr</cp:lastModifiedBy>
  <cp:lastPrinted>2004-11-22T08:14:23Z</cp:lastPrinted>
  <dcterms:modified xsi:type="dcterms:W3CDTF">2010-11-15T22:04:43Z</dcterms:modified>
  <cp:revision>850</cp:revision>
  <dc:subject/>
  <dc:title>video slide</dc:title>
</cp:coreProperties>
</file>